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74.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6.png" ContentType="image/png"/>
  <Override PartName="/ppt/media/image15.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D7A9D-33A4-42E0-B8AB-C52856CF0B81}"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4507C-2CA1-4808-B5E8-79E54BFA119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we have reviewed the functions of communication used by individuals with ASD, we will now discuss the various methods of communication that can be used.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C9A1B-0226-48DC-99B0-66B2D6E04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thods of communication can be divided into two main categories:  (a) verbal communication; and (b) augmentative and alternative communication, known as AAC.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E6CDE-4BD2-4DD3-B67E-20FE37C5A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y personal definition of verbal communication.  </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1FEAA-61A9-42C3-AF58-90952D49F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ose individuals with ASD who cannot communicate verbally or do not have functional communication skills, alternative and augmentative communication  systems prove to be beneficial.  AAC is a combination of symbols and methods that are used to improve communication (Downey &amp; Hurtig, 2003).  The following types of AAC methods will be reviewed:  (a) object exchange; (b) sign language; (c) “total communication;” (d) picture exchange communication system (PECS); and (e) voice-output communication aids (VOCAs).  </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B9870-8AB0-4BA0-B0DE-791543AD4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ject exchange is a type of communication that uses real objects.  </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D9BF3-8619-40BB-9D02-63F998838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 language is a method of communication that uses movements made with the hands to represent letters and words (National Institute on Deafness and Other Communication Disorders, 200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FCA99-FC42-46AF-BDD1-E414ACAC8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this is the sign for “I love you!”  </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DD2D3-2CC8-46E7-A234-422916430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communication is an AAC method that involves using verbalizations and sign language simultaneously (Goldstein, 2002; Prelock, 2006).  </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1CE75-4D71-4B28-9CE8-EB14A4096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a picture of a PECS book.  The sentence strip is the yellow piece of plastic on the book containing the pictures “I want” and </a:t>
            </a:r>
            <a:br>
              <a:rPr sz="1200"/>
            </a:br>
            <a:r>
              <a:rPr b="0" lang="en-US" sz="1200" spc="-1" strike="noStrike">
                <a:solidFill>
                  <a:srgbClr val="000000"/>
                </a:solidFill>
                <a:latin typeface="Calibri"/>
              </a:rPr>
              <a:t>“cheese puffs.”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41907-5EA0-4FF2-ACAC-1CCEF40FC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discussed earlier, VOCA stands for Voice Output Communication Aid.  </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A0BF6-AF4B-4A38-B4D6-DCD93A30F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CAs vary in complexity and cost.  This is a picture of a Bigmack switch, which is the simplest form of VOCA.  It can hold on programmed message.  </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D4B0F-B3D7-4D86-85CC-5DB6074D7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picture of a Tech Talk 4.  The Tech Talk 4 is a simple VOCA that can hold four programmed messages.  </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391C1-2735-4A65-B890-FDE5F9E70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picture of a Go Talk 9+.  The Go Talk 9+ can hold 12 messages per level and has five different levels.  </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0B5DD-5413-4A58-B6C5-FC6320591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DynaVox VMax.  This device is considered to be a high-tech VOCA.  There are an infinite number of messages and pictures that can be programmed into the device.  The device has other capabilities, such as remote control access.  </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B7D5C-A236-4BD7-831A-35D1F6842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electing a method of communication, you should consider the following  First, you need to consider the communication needs of your child.  Does your child have any verbal skills?  Are your child’s verbal skills functional?  Next, consider the physical capabilities of your child.  Does you child have good hand and finger movements to use sign language, access pictures for PECS, or push buttons on a VOCA?  Next, what method of communication motivates your child?  Does your child relate to objects, pictures, or computers?   It is also important to consider the flexibility and accessibility of the method of communication.  You must choose a method of communication that will be used.  What will work best in your home and with your family?  Will a PECS book or VOCA seem too cumbersome?  If using sign language and/or “total communication,” will all of the family members be willing to learn sign language, as well?  Lastly, consulting with a speech-language pathologist would be very beneficial when considering a method of communication.  These professionals can assist you in selecting a method, as well as the implementation of the communication method (ASHA, 2009a).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1EAA8-7324-4A49-A89B-214B3F1B6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discuss the following communication strategies:  (a) naturalistic language teaching; (b) joint action routines; and (c) visual strategies (Goldstein, 2002; Prelock, 2006; Tissot &amp; Evans, 200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93E41-32A4-4B53-B904-B7398A341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lieu language teaching is a specific naturalistic language teaching strategy that is composed of four techniques:  (a) child-directed modeling; (b) mand-modeling; (c) time-delay; and (d) incidental teaching.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BCE2E-0AE9-4B66-B935-D1104B7D7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will discuss joint action routines.  </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5B4F5-AC59-413B-B2D0-4A408F428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will discuss visual strategies to facilitate communication skills.  Why should we use visual strategies with children with ASD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2CE5F-3DC7-49A7-8DA8-5DBAC867C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discuss live and video modeling, social stories, and scripts.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6BE9C-8014-4594-99BD-6E7656A8F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ECC42-6502-4795-A0F6-E35ACEF09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3BF7A-A2A5-4BB6-AA32-F14471A5D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xt visual strategy we will discuss is social stories.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C67C6-2F05-4FBB-B801-42BBAC4F8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example of a social story.  The purpose of the story is to teach the child to ask other children to play.  This story would be appropriate for a child who could read.  For a younger child, you could modify the story to include pictures.  For a child who is learning to read or who has difficulty reading, you can pair the pictures with the written word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57F25-7709-488D-8B5C-B69657580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xt visual strategy we will discuss are scripts.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62B43-7306-422D-873D-00D760860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ought it would be useful to provide a list of basic resources that you could use to create the materials needed when using visual strategies.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DB699-1788-45A7-BC29-07EDC5DFA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onclusion, I’d like to briefly review what we discussed today.  Communication is a complex process.  Communication is especially difficult for individuals with autism.  We discussed the three functions of communication, which are to regulate behavior, engage in social interactions, and engage in joint attention </a:t>
            </a:r>
            <a:r>
              <a:rPr b="0" lang="en-US" sz="2000" spc="-1" strike="noStrike">
                <a:solidFill>
                  <a:srgbClr val="000000"/>
                </a:solidFill>
                <a:latin typeface="Calibri"/>
              </a:rPr>
              <a:t>(American Pyschiatric Association, 2000; Hedge, 2001; Prelock, 2006)</a:t>
            </a:r>
            <a:endParaRPr b="0" lang="en-US" sz="2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419FC-93E8-4039-8114-8E245CE84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There are many methods of communication.  We reviewed the types of AAC, which are (a) object exchange; (b) sign language; (c) “Total Communication; (d) PECS; and (e) VOCAs.  When selecting a method of communication, it is important to choose one that best fits the communication needs of your child.  Lastly, we discussed communication strategies to use in the home.  We focused on the milieu language strategies included in naturalistic language teaching, which are child-directed modeling, mand-modeling, time-delay, and incidental teaching.  We discussed joint action routines and the visual strategies of live and video modeling, social stories and scripts </a:t>
            </a:r>
            <a:r>
              <a:rPr b="0" lang="en-US" sz="2000" spc="-1" strike="noStrike">
                <a:solidFill>
                  <a:srgbClr val="000000"/>
                </a:solidFill>
                <a:latin typeface="Calibri"/>
              </a:rPr>
              <a:t>(ASHA, 2009a; Charlop-Christy &amp; Kelso, 2003; Goldstein, 2002; Harris &amp; Delmolino, 2002; Ivey,Heflin &amp; Alberto, 2004; Prelock, 2006; Sansosti &amp; Powel-Smith, 2008; Tissot &amp; Evans, 2003).</a:t>
            </a:r>
            <a:endParaRPr b="0" lang="en-US" sz="2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E9C8C-CCD6-48D8-BC16-3EA890719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ould like to leave you with a final thought.  Opportunities to communicate are everywhere, and we learn by doing!  Be sure to provide your child with as many opportunities to communicate as possible.  Thank you!!</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A9BBB-95B5-4A90-9C6D-CCFA31F75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5BCC1-ED39-41E8-BF12-ECFB17F34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C5EF-050A-4C56-90A2-92C72ECB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5503A-ABCC-43C0-AE16-7DAA2B041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8378-6373-48A1-8E74-69675DD52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6931C-077F-4C0A-9875-25A6640B6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A160-21AB-4032-992C-743B3D1DE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7F5E-6319-4337-A1CA-D10AB0493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9D307-34B2-4146-891A-8316004C7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6B047-51F2-4C1E-B87D-3B3C95E94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9844B-FA6C-4447-B98B-88F7DA6D0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AA04E-FB49-4CBF-8EA7-C4BBDBAC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94A2-86E5-4D17-805B-23613DE12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83CF-0A3A-4764-AE71-4ED937BB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7F25-1DF9-4C22-BD06-148EBDFA0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FD584-81B5-4D78-B738-6A5CE6641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6C3F6-7943-4C4E-A974-9CC1C4F45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962B5-53D8-4712-ACEE-4493BA9EF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52CE2-33C5-47A8-8F45-DBB6B06D7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8E2DF-74A9-413E-8B69-50295ECF6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73BF7-B476-42DB-9478-15E0D8664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C09FB-DD5F-4CC4-8767-E1027BF2E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5A1D0-E246-4CF5-B56C-46FC8A478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E6E7-6F07-4CF5-9653-47969BF37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12C47-335F-483E-8D4A-3DDFA0C5C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FEEA8-BBDC-47D2-81E7-E15E373CA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F393D-FA5C-4BD9-BFEE-4DDDD0C4C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333D3-0FAC-4D9C-8118-9351328D8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8FE38-E630-4D1E-8101-36F58394F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C56F8C-9DD5-46B3-8714-1965708149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603DE-4125-4398-B8F9-5158AA17B8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299930-CA60-4ACE-98CA-BFAB935152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DBBDE-AC28-4645-964D-AF16E63AD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361B9-3E4B-4251-8D74-6B78414E5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0B3E-5D0E-4F2D-A764-0AA15B7D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D6DE3-E1AD-4D23-B942-795D34855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B3F21-06AD-4002-9602-0367FADA0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65D53-C761-439E-AE07-DDE76906A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18D5B-F551-4D72-AC8A-D57822CE8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1DE72-1DFE-415B-AF0D-16D91D3A5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63827-36CB-43D5-8D56-87E768C0D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B245A-63D2-4A62-B9F8-601B3B8B4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6276B-506F-4BC1-9211-D2119CB1F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D530D9-5D27-4534-ADF7-9D1D205192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1A6BD-41F3-4306-9F21-4AFA0A16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1EA5-BEBE-462F-867D-F3C39C30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B357-23EA-4BB8-BEFF-2F36DDEF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8123-21B2-4627-8E01-0D5B0A26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7D6A-EDD6-4F97-B154-677FBE057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B4A3A-D61C-4066-A520-D58AD8C46E04}"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5E7C7-30A7-406A-96E7-E3B5727AD19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8C4A5-AF54-4EC0-A535-C4FFA4DF1405}"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6B8D5-1273-4339-B65B-18904A12C33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D739A-79BD-44E6-987F-60A3E462A35A}"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3C470-5A3D-482C-B188-9E4A6BEEBD4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39499-8EBF-4CE2-8E60-DCA17C122AD2}"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0296C-DC68-4FD1-8C49-0F497E5356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sd.k12.nj.us/autistic/Social%20Stories/Pages/asking_other_kids_to_play.htm" TargetMode="Externa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530280" y="1365120"/>
            <a:ext cx="7858080" cy="1938600"/>
          </a:xfrm>
          <a:prstGeom prst="rect">
            <a:avLst/>
          </a:prstGeom>
          <a:ln w="0">
            <a:noFill/>
          </a:ln>
        </p:spPr>
      </p:pic>
      <p:sp>
        <p:nvSpPr>
          <p:cNvPr id="203" name="PlaceHolder 1"/>
          <p:cNvSpPr>
            <a:spLocks noGrp="1"/>
          </p:cNvSpPr>
          <p:nvPr>
            <p:ph type="subTitle"/>
          </p:nvPr>
        </p:nvSpPr>
        <p:spPr>
          <a:xfrm>
            <a:off x="533160" y="3228480"/>
            <a:ext cx="7854840" cy="36291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ＭＳ Ｐゴシック"/>
              </a:rPr>
              <a:t>Kristin J. Szewczyk, M.S./CCC-SLP</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ＭＳ Ｐゴシック"/>
              </a:rPr>
              <a:t>February 1, 2009</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000" spc="-1" strike="noStrike">
                <a:solidFill>
                  <a:srgbClr val="04617b"/>
                </a:solidFill>
                <a:latin typeface="Calibri"/>
              </a:rPr>
              <a:t>Functions of Communication </a:t>
            </a:r>
            <a:endParaRPr b="0" lang="en-US" sz="4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gulate Behavio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st function to develop</a:t>
            </a:r>
            <a:r>
              <a:rPr b="0" lang="en-US" sz="2400" spc="-1" strike="noStrike">
                <a:solidFill>
                  <a:srgbClr val="000000"/>
                </a:solidFill>
                <a:latin typeface="Constantia"/>
              </a:rPr>
              <a:t>	</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king requests</a:t>
            </a:r>
            <a:endParaRPr b="0" lang="en-US" sz="21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bjects</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ivities</a:t>
            </a:r>
            <a:endParaRPr b="0" lang="en-US" sz="20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pressing Wants/Needs</a:t>
            </a:r>
            <a:endParaRPr b="0" lang="en-US" sz="21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nger/Thirst</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king for help</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3" marL="1163520" indent="-205200" algn="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relock, 2006; Wetherby &amp; Prizant, 2005)</a:t>
            </a:r>
            <a:endParaRPr b="0" lang="en-US" sz="20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ＭＳ Ｐゴシック"/>
              </a:rPr>
              <a:t>Functions of Communication</a:t>
            </a:r>
            <a:endParaRPr b="0" lang="en-US" sz="44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Interaction</a:t>
            </a: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lay Activ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questing involvement with Family/Friend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cial Greetings</a:t>
            </a:r>
            <a:endParaRPr b="0" lang="en-US" sz="2100" spc="-1" strike="noStrike">
              <a:solidFill>
                <a:srgbClr val="000000"/>
              </a:solidFill>
              <a:latin typeface="Constantia"/>
            </a:endParaRPr>
          </a:p>
          <a:p>
            <a:pPr lvl="3" marL="1175400" indent="-20736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Hello”/ “Bye-Bye”</a:t>
            </a:r>
            <a:endParaRPr b="0" lang="en-US" sz="20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ring Attention to Self</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howing Off</a:t>
            </a: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Prelock, 2006; Wetherby &amp; Prizant, 2005)</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ＭＳ Ｐゴシック"/>
              </a:rPr>
              <a:t>Functions of Communication</a:t>
            </a:r>
            <a:endParaRPr b="0" lang="en-US" sz="44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t Atten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ing attention between individuals and objec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aining an individual’s attention</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ing an individual’s attention</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ke Comment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k Question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vide information </a:t>
            </a:r>
            <a:endParaRPr b="0" lang="en-US" sz="20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Prelock, 2006; Wetherby &amp; Prizant, 2005)</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Methods of Communica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Verbal Communication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Augmentative and Alternative Communication (AAC)</a:t>
            </a:r>
            <a:endParaRPr b="0" lang="en-US" sz="4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erbal Communication </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Using spoken words to express wants/needs, request items/activities, make comments, ask/answer questions, and engage in social interac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AAC</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AC is a combination of symbols and methods that are used to improve communication (Downey &amp; Hurtig, 2003)</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bject Exchange</a:t>
            </a:r>
            <a:endParaRPr b="0" lang="en-US" sz="22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gn Language</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Total Communication”</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icture Exchange Communication System (PECS)</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oice-Output Communication Aids (VOCAs)</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Object Exchange</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al Object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gives communicative partner an object to indicate what he/she wan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  Child gives parent a book to indicate that he/she wants to read a story</a:t>
            </a: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must have easy access to the objects in order to make wants/needs know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kes, 2006)</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ign Language</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ovements made with the hands to represent letters and words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National Institute on Deafness and Other Communication Disorders, 2008)</a:t>
            </a: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ea typeface="ＭＳ Ｐゴシック"/>
              </a:rPr>
              <a:t>(Lifeprint.com, 2008)</a:t>
            </a:r>
            <a:endParaRPr b="0" lang="en-US" sz="1900" spc="-1" strike="noStrike">
              <a:solidFill>
                <a:srgbClr val="000000"/>
              </a:solidFill>
              <a:latin typeface="Constantia"/>
            </a:endParaRPr>
          </a:p>
        </p:txBody>
      </p:sp>
      <p:pic>
        <p:nvPicPr>
          <p:cNvPr id="240" name="Picture 4" descr="ily_asl_1024h.gif"/>
          <p:cNvPicPr/>
          <p:nvPr/>
        </p:nvPicPr>
        <p:blipFill>
          <a:blip r:embed="rId2"/>
          <a:stretch/>
        </p:blipFill>
        <p:spPr>
          <a:xfrm>
            <a:off x="2209680" y="990720"/>
            <a:ext cx="51786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Communication is simply defined as </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lang="en-US" sz="2800" spc="-1" strike="noStrike">
                <a:solidFill>
                  <a:srgbClr val="000000"/>
                </a:solidFill>
                <a:latin typeface="Constantia"/>
                <a:ea typeface="ＭＳ Ｐゴシック"/>
              </a:rPr>
              <a:t>an exchange of information;” however, the process of communication is much more complex.   </a:t>
            </a:r>
            <a:endParaRPr b="0" lang="en-US" sz="2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1900" spc="-1" strike="noStrike">
                <a:solidFill>
                  <a:srgbClr val="000000"/>
                </a:solidFill>
                <a:latin typeface="Constantia"/>
                <a:ea typeface="ＭＳ Ｐゴシック"/>
              </a:rPr>
              <a:t>(Hedge, 2001, p. 2)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Total Communication</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n AAC method that involves using verbalizations and sign language simultaneously</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Prelock, 2006)</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a:t>
            </a:r>
            <a:endParaRPr b="0" lang="en-US" sz="5000" spc="-1" strike="noStrike">
              <a:solidFill>
                <a:srgbClr val="04617b"/>
              </a:solidFill>
              <a:latin typeface="Calibri"/>
            </a:endParaRPr>
          </a:p>
        </p:txBody>
      </p:sp>
      <p:pic>
        <p:nvPicPr>
          <p:cNvPr id="244" name="Content Placeholder 2" descr=""/>
          <p:cNvPicPr/>
          <p:nvPr/>
        </p:nvPicPr>
        <p:blipFill>
          <a:blip r:embed="rId2"/>
          <a:stretch/>
        </p:blipFill>
        <p:spPr>
          <a:xfrm>
            <a:off x="450720" y="1932120"/>
            <a:ext cx="8242560" cy="439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I – “How” to Communicate (Frost &amp; Bond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2002, p. 67)</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 presents the individual with a preferred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chooses a picture that represents the preferred item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gives the picture to the instructor to request the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 gives the individual the desired i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II- Develops independent requesting</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chooses a picture from his/her PECS book </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finds the communicative partner and gives the picture to him/her</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y one picture is used during this phase</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20280" indent="-238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rost &amp; Bondy, 1994; 2002)</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Phase III-Continues to develop independen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requesting</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selects a picture from a larger field</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independently selects a picture from his/her PECS book and finds a communicative partner in order to make the request</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umber of pictures increases as the individual gains accuracy and experience</a:t>
            </a:r>
            <a:endParaRPr b="0" lang="en-US" sz="2200" spc="-1" strike="noStrike">
              <a:solidFill>
                <a:srgbClr val="000000"/>
              </a:solidFill>
              <a:latin typeface="Constantia"/>
            </a:endParaRPr>
          </a:p>
          <a:p>
            <a:pPr lvl="1" marL="633240" indent="-243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Frost &amp; Bondy, 1994; 2002)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IV- Combining pictures to make request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uses a sentence strip located at the front of his/her PECS book to build more complicated requests</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ndividual must locate the “I want” picture as well as the picture of the item or activity he/she is requesting</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then finds a communicative partner in order to make the request  </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Frost &amp; Bondy, 1994; 2002)</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V- “What do you want?”</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uses a sentence strip located at the front of his/her PECS book to build more complicated requests</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must locate the “I want” picture as well as the picture of the item or activity he/she is requesting</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then finds a communicative partner in order    to make the request </a:t>
            </a:r>
            <a:endParaRPr b="0" lang="en-US" sz="24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Frost &amp; Bondy, 1994; 2002)</a:t>
            </a:r>
            <a:endParaRPr b="0" lang="en-US" sz="2000" spc="-1" strike="noStrike">
              <a:solidFill>
                <a:srgbClr val="000000"/>
              </a:solidFill>
              <a:latin typeface="Constantia"/>
            </a:endParaRPr>
          </a:p>
          <a:p>
            <a:pPr lvl="1" marL="582120" indent="-2235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VI- Independent Communication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independently responds to a variety of questions and makes comments using his/her PECS book</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000" spc="-1" strike="noStrike">
                <a:solidFill>
                  <a:srgbClr val="000000"/>
                </a:solidFill>
                <a:latin typeface="Constantia"/>
              </a:rPr>
              <a:t>(Frost &amp; Bondy, 1994; 2002)</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trokes, 2006)</a:t>
            </a:r>
            <a:endParaRPr b="0" lang="en-US" sz="2000" spc="-1" strike="noStrike">
              <a:solidFill>
                <a:srgbClr val="000000"/>
              </a:solidFill>
              <a:latin typeface="Constantia"/>
            </a:endParaRPr>
          </a:p>
        </p:txBody>
      </p:sp>
      <p:pic>
        <p:nvPicPr>
          <p:cNvPr id="259" name="Picture 5" descr="Autism016s.jpg"/>
          <p:cNvPicPr/>
          <p:nvPr/>
        </p:nvPicPr>
        <p:blipFill>
          <a:blip r:embed="rId2"/>
          <a:stretch/>
        </p:blipFill>
        <p:spPr>
          <a:xfrm>
            <a:off x="2765520" y="2079720"/>
            <a:ext cx="3301920" cy="3009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ronic device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pushes a button on device</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ctures/printed words on the buttons represent messages</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recorded message plays</a:t>
            </a: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y in complexity and cost</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3440" indent="-25344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unes, 2008)</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Problems with Communica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The Sensory Company®, 2003)</a:t>
            </a:r>
            <a:endParaRPr b="0" lang="en-US" sz="2000" spc="-1" strike="noStrike">
              <a:solidFill>
                <a:srgbClr val="000000"/>
              </a:solidFill>
              <a:latin typeface="Constantia"/>
            </a:endParaRPr>
          </a:p>
        </p:txBody>
      </p:sp>
      <p:pic>
        <p:nvPicPr>
          <p:cNvPr id="264" name="Picture 5" descr="BIGmack.jpg"/>
          <p:cNvPicPr/>
          <p:nvPr/>
        </p:nvPicPr>
        <p:blipFill>
          <a:blip r:embed="rId2"/>
          <a:stretch/>
        </p:blipFill>
        <p:spPr>
          <a:xfrm>
            <a:off x="2597040" y="193500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daptAble Minds, n.d.)</a:t>
            </a:r>
            <a:endParaRPr b="0" lang="en-US" sz="2000" spc="-1" strike="noStrike">
              <a:solidFill>
                <a:srgbClr val="000000"/>
              </a:solidFill>
              <a:latin typeface="Constantia"/>
            </a:endParaRPr>
          </a:p>
        </p:txBody>
      </p:sp>
      <p:pic>
        <p:nvPicPr>
          <p:cNvPr id="267" name="Picture 6" descr="tech4.gif"/>
          <p:cNvPicPr/>
          <p:nvPr/>
        </p:nvPicPr>
        <p:blipFill>
          <a:blip r:embed="rId2"/>
          <a:stretch/>
        </p:blipFill>
        <p:spPr>
          <a:xfrm>
            <a:off x="2743200" y="2286000"/>
            <a:ext cx="3809880" cy="308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uperDuper Publications, 2009)</a:t>
            </a:r>
            <a:endParaRPr b="0" lang="en-US" sz="2000" spc="-1" strike="noStrike">
              <a:solidFill>
                <a:srgbClr val="000000"/>
              </a:solidFill>
              <a:latin typeface="Constantia"/>
            </a:endParaRPr>
          </a:p>
        </p:txBody>
      </p:sp>
      <p:pic>
        <p:nvPicPr>
          <p:cNvPr id="270" name="Picture 4" descr="ATT09.jpg"/>
          <p:cNvPicPr/>
          <p:nvPr/>
        </p:nvPicPr>
        <p:blipFill>
          <a:blip r:embed="rId2"/>
          <a:stretch/>
        </p:blipFill>
        <p:spPr>
          <a:xfrm>
            <a:off x="2666880" y="2209680"/>
            <a:ext cx="3657600" cy="350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DynaVox Technologies, 2008)</a:t>
            </a:r>
            <a:endParaRPr b="0" lang="en-US" sz="2000" spc="-1" strike="noStrike">
              <a:solidFill>
                <a:srgbClr val="000000"/>
              </a:solidFill>
              <a:latin typeface="Constantia"/>
            </a:endParaRPr>
          </a:p>
        </p:txBody>
      </p:sp>
      <p:pic>
        <p:nvPicPr>
          <p:cNvPr id="273" name="Picture 3" descr="PinkVmax.jpg"/>
          <p:cNvPicPr/>
          <p:nvPr/>
        </p:nvPicPr>
        <p:blipFill>
          <a:blip r:embed="rId2"/>
          <a:stretch/>
        </p:blipFill>
        <p:spPr>
          <a:xfrm>
            <a:off x="1968480" y="193500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Benefits of AAC</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72880">
              <a:lnSpc>
                <a:spcPct val="90000"/>
              </a:lnSpc>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cial for verbal/non-verbal children with ASD </a:t>
            </a: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creases number of vocalizations/verbalizations</a:t>
            </a: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functional communication skills</a:t>
            </a:r>
            <a:endParaRPr b="0" lang="en-US" sz="2100" spc="-1" strike="noStrike">
              <a:solidFill>
                <a:srgbClr val="000000"/>
              </a:solidFill>
              <a:latin typeface="Constantia"/>
            </a:endParaRPr>
          </a:p>
          <a:p>
            <a:pPr lvl="3" marL="1187280" indent="-24588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pressing wants/needs</a:t>
            </a:r>
            <a:endParaRPr b="0" lang="en-US" sz="2000" spc="-1" strike="noStrike">
              <a:solidFill>
                <a:srgbClr val="000000"/>
              </a:solidFill>
              <a:latin typeface="Constantia"/>
            </a:endParaRPr>
          </a:p>
          <a:p>
            <a:pPr lvl="3" marL="1187280" indent="-24588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esting</a:t>
            </a:r>
            <a:endParaRPr b="0" lang="en-US" sz="20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Blischak, Lombardino, &amp; Dyson, 2003; </a:t>
            </a:r>
            <a:r>
              <a:rPr b="0" lang="en-US" sz="1800" spc="-1" strike="noStrike">
                <a:solidFill>
                  <a:srgbClr val="000000"/>
                </a:solidFill>
                <a:latin typeface="Constantia"/>
              </a:rPr>
              <a:t>Charlop-Christy, Carpenter, Le, LeBlanc &amp; Kellet, 2002; </a:t>
            </a:r>
            <a:r>
              <a:rPr b="0" lang="en-US" sz="1900" spc="-1" strike="noStrike">
                <a:solidFill>
                  <a:srgbClr val="000000"/>
                </a:solidFill>
                <a:latin typeface="Constantia"/>
              </a:rPr>
              <a:t>Dyches, Davis, Lucido, and Young,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2002 ; Goldstein, 2002; Mirenda, Wilk, and Carson; 2000; Nunes, 2008 </a:t>
            </a:r>
            <a:endParaRPr b="0" lang="en-US" sz="19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Benefits of AAC</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communicative initiations</a:t>
            </a:r>
            <a:endParaRPr b="0" lang="en-US" sz="2100" spc="-1" strike="noStrike">
              <a:solidFill>
                <a:srgbClr val="000000"/>
              </a:solidFill>
              <a:latin typeface="Constantia"/>
            </a:endParaRPr>
          </a:p>
          <a:p>
            <a:pPr lvl="3" marL="1187280" indent="-24588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ponses </a:t>
            </a:r>
            <a:endParaRPr b="0" lang="en-US" sz="2000" spc="-1" strike="noStrike">
              <a:solidFill>
                <a:srgbClr val="000000"/>
              </a:solidFill>
              <a:latin typeface="Constantia"/>
            </a:endParaRPr>
          </a:p>
          <a:p>
            <a:pPr lvl="3" marL="1187280" indent="-24588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ents</a:t>
            </a:r>
            <a:endParaRPr b="0" lang="en-US" sz="20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social interaction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creases problem behaviors</a:t>
            </a:r>
            <a:endParaRPr b="0" lang="en-US" sz="21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Blischak, Lombardino, &amp; Dyson, 2003; </a:t>
            </a:r>
            <a:r>
              <a:rPr b="0" lang="en-US" sz="1800" spc="-1" strike="noStrike">
                <a:solidFill>
                  <a:srgbClr val="000000"/>
                </a:solidFill>
                <a:latin typeface="Constantia"/>
              </a:rPr>
              <a:t>Charlop-Christy, Carpenter, Le, LeBlanc &amp; Kellet, 2002; </a:t>
            </a:r>
            <a:r>
              <a:rPr b="0" lang="en-US" sz="1900" spc="-1" strike="noStrike">
                <a:solidFill>
                  <a:srgbClr val="000000"/>
                </a:solidFill>
                <a:latin typeface="Constantia"/>
              </a:rPr>
              <a:t>Dyches, Davis, Lucido, and Young,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2002 ; Goldstein, 2002; Mirenda, Wilk, and Carson; 2000; Nunes, 2008 </a:t>
            </a:r>
            <a:endParaRPr b="0" lang="en-US" sz="19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7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ea typeface="ＭＳ Ｐゴシック"/>
              </a:rPr>
              <a:t>Selecting a Method of Communication</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8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When selecting a method of communication, should consider the follow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unication needs of your chil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ysical capabilities of your child </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s level of motivation</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Accessibility of the method of communication</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lt with a speech-language pathologist (SLP)</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594720" indent="-2286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HA, 2009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Communication Strategie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trategies</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Naturalistic Language Teaching </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Joint Action Routines</a:t>
            </a:r>
            <a:endParaRPr b="0" lang="en-US" sz="24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Visual Strategies</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Prelock, 2006; Tissot &amp; Evans, 2003)</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	</a:t>
            </a:r>
            <a:r>
              <a:rPr b="0" lang="en-US" sz="4400" spc="-1" strike="noStrike">
                <a:solidFill>
                  <a:srgbClr val="000000"/>
                </a:solidFill>
                <a:latin typeface="Constantia"/>
                <a:ea typeface="ＭＳ Ｐゴシック"/>
              </a:rPr>
              <a:t>Communication deficits are one of the primary characteristics </a:t>
            </a:r>
            <a:endParaRPr b="0" lang="en-US" sz="4400" spc="-1" strike="noStrike">
              <a:solidFill>
                <a:srgbClr val="000000"/>
              </a:solidFill>
              <a:latin typeface="Constantia"/>
            </a:endParaRPr>
          </a:p>
          <a:p>
            <a:pPr marL="248040" indent="-2480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of autism spectrum disorders (ASDs)</a:t>
            </a:r>
            <a:endParaRPr b="0" lang="en-US" sz="4400" spc="-1" strike="noStrike">
              <a:solidFill>
                <a:srgbClr val="000000"/>
              </a:solidFill>
              <a:latin typeface="Constantia"/>
            </a:endParaRPr>
          </a:p>
          <a:p>
            <a:pPr marL="248040" indent="-24804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48040" indent="-24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merican Pyschiatric Association, 2000)</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ea typeface="ＭＳ Ｐゴシック"/>
              </a:rPr>
              <a:t>Naturalistic Language Teaching</a:t>
            </a:r>
            <a:endParaRPr b="0" lang="en-US" sz="4000" spc="-1" strike="noStrike">
              <a:solidFill>
                <a:srgbClr val="04617b"/>
              </a:solidFill>
              <a:latin typeface="Calibri"/>
            </a:endParaRPr>
          </a:p>
        </p:txBody>
      </p:sp>
      <p:sp>
        <p:nvSpPr>
          <p:cNvPr id="287" name=""/>
          <p:cNvSpPr txBox="1"/>
          <p:nvPr/>
        </p:nvSpPr>
        <p:spPr>
          <a:xfrm>
            <a:off x="457200" y="184752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struction and learning is provided during naturally occurring  situa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Uses child-preferred materials </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rn and generalize skills at a faster rate</a:t>
            </a:r>
            <a:endParaRPr b="0" lang="en-US" sz="2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ild is reinforced for appropriate initiations and responses to communication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ea typeface="ＭＳ Ｐゴシック"/>
              </a:rPr>
              <a:t>(Harris &amp; Delmolino, 2002; Prelock, 2006)</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ea typeface="ＭＳ Ｐゴシック"/>
              </a:rPr>
              <a:t>Naturalistic Language Teaching</a:t>
            </a:r>
            <a:endParaRPr b="0" lang="en-US" sz="4500" spc="-1" strike="noStrike">
              <a:solidFill>
                <a:srgbClr val="04617b"/>
              </a:solidFill>
              <a:latin typeface="Calibri"/>
            </a:endParaRPr>
          </a:p>
        </p:txBody>
      </p:sp>
      <p:sp>
        <p:nvSpPr>
          <p:cNvPr id="289" name=""/>
          <p:cNvSpPr txBox="1"/>
          <p:nvPr/>
        </p:nvSpPr>
        <p:spPr>
          <a:xfrm>
            <a:off x="457200" y="1847520"/>
            <a:ext cx="8229600" cy="4389480"/>
          </a:xfrm>
          <a:prstGeom prst="rect">
            <a:avLst/>
          </a:prstGeom>
          <a:noFill/>
          <a:ln w="0">
            <a:noFill/>
          </a:ln>
        </p:spPr>
        <p:txBody>
          <a:bodyPr lIns="90000" rIns="90000" tIns="46800" bIns="46800"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ilieu language teach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directed mode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d-mode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dela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idental teaching</a:t>
            </a:r>
            <a:endParaRPr b="0" lang="en-US" sz="24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Harris &amp; Delmolino, 2002; Prelock, 2006)</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Directed Modeling</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s child’s interests</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es joint attention</a:t>
            </a:r>
            <a:endParaRPr b="0" lang="en-US" sz="21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provides verbal models</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inforce correct responses</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pair incorrect responses</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Child-Directed Modeling</a:t>
            </a:r>
            <a:endParaRPr b="0" lang="en-US" sz="36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nterest:  Child enjoys going for rides in the ca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responds: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responds: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Nice talk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ult/Instructor then opens the door to the car.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and-Modeling</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nd is “a verbal instruction or request” (Prelock, 2006, p. 413)</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s functional communication skills</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tilizes child’s interes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 joint attention</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and-Modeling</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instructs the child to follow a command or complete a reque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vides a verbal model </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inforce correct response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pair incorrect respons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Mand-Modeling</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approaches playdough, which is the child’s favorite activ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says:  “Nice talk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ives child the playdough</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ime-Del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pauses between the mand and the provided model/cu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s independent communic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Harris &amp; Delmolino, 2002; Prelock, 2006)</a:t>
            </a:r>
            <a:endParaRPr b="0" lang="en-US" sz="20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Time-Delay</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wants to watch a movie and stands in front of the T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Instructor waits until child makes the reque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I want to watch a movi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completes the reques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5" name=""/>
          <p:cNvSpPr txBox="1"/>
          <p:nvPr/>
        </p:nvSpPr>
        <p:spPr>
          <a:xfrm>
            <a:off x="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ncidental Teaching</a:t>
            </a:r>
            <a:endParaRPr b="0" lang="en-US" sz="2800" spc="-1" strike="noStrike">
              <a:solidFill>
                <a:srgbClr val="000000"/>
              </a:solidFill>
              <a:latin typeface="Constantia"/>
            </a:endParaRPr>
          </a:p>
          <a:p>
            <a:pPr marL="264600" indent="-264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language/conversational skills</a:t>
            </a: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vironment arranged to facilitate communication</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tilizes child’s interests</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 must interact with adult to make a request</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886680" indent="-23868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pic>
        <p:nvPicPr>
          <p:cNvPr id="211" name="Content Placeholder 2" descr=""/>
          <p:cNvPicPr/>
          <p:nvPr/>
        </p:nvPicPr>
        <p:blipFill>
          <a:blip r:embed="rId2"/>
          <a:stretch/>
        </p:blipFill>
        <p:spPr>
          <a:xfrm>
            <a:off x="450720" y="1932120"/>
            <a:ext cx="8242560" cy="4395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7"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 instructs child to make a request or answer a question using a more complex response</a:t>
            </a:r>
            <a:endParaRPr b="0" lang="en-US" sz="2600" spc="-1" strike="noStrike">
              <a:solidFill>
                <a:srgbClr val="000000"/>
              </a:solidFill>
              <a:latin typeface="Constantia"/>
            </a:endParaRPr>
          </a:p>
          <a:p>
            <a:pPr lvl="1" marL="639720" indent="-24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a model</a:t>
            </a: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correction</a:t>
            </a:r>
            <a:endParaRPr b="0" lang="en-US" sz="2300" spc="-1" strike="noStrike">
              <a:solidFill>
                <a:srgbClr val="000000"/>
              </a:solidFill>
              <a:latin typeface="Constantia"/>
            </a:endParaRPr>
          </a:p>
          <a:p>
            <a:pPr lvl="2" marL="914400" indent="-246240">
              <a:lnSpc>
                <a:spcPct val="8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reinforcement</a:t>
            </a: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gn="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rris &amp; Delmolino, 2002; Prelock, 2006)</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Incidental Teaching</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wants a cookie and says, “Cookie.”</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What kind of cookie do you wan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I want a chocolate cooki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Here is your cookie.  You like chocolate cookies.  I like chocolate cookies, too.  Do you think Daddy likes chocolate cookie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Yes.  He eats chocolate cookies, to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Joint Action Routine</a:t>
            </a:r>
            <a:endParaRPr b="0" lang="en-US" sz="5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Utilizes familiar routines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Involves two or more individual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ovide some items for routine, but withhold other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requests items needed to complete the routin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asks child questions during the routine</a:t>
            </a:r>
            <a:endParaRPr b="0" lang="en-US" sz="2200" spc="-1" strike="noStrike">
              <a:solidFill>
                <a:srgbClr val="000000"/>
              </a:solidFill>
              <a:latin typeface="Constantia"/>
            </a:endParaRPr>
          </a:p>
          <a:p>
            <a:pPr marL="272880" indent="-2728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elock, 200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Joint Action Routin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Three types of joint attention routine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outines with a “specific product or outcome” (Prelock, 2006, p. 408)</a:t>
            </a:r>
            <a:endParaRPr b="0" lang="en-US" sz="2000" spc="-1" strike="noStrike">
              <a:solidFill>
                <a:srgbClr val="000000"/>
              </a:solidFill>
              <a:latin typeface="Constanti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outines planned around a theme or story</a:t>
            </a:r>
            <a:endParaRPr b="0" lang="en-US" sz="2000" spc="-1" strike="noStrike">
              <a:solidFill>
                <a:srgbClr val="000000"/>
              </a:solidFill>
              <a:latin typeface="Constanti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urn-taking routi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elock, 200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Joint Action Routine</a:t>
            </a:r>
            <a:endParaRPr b="0" lang="en-US" sz="36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reakfast</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What do you want for breakfast?”</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What kind of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Lucky Charm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child the box of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I need the milk.”</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the child the milk.</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I need a bowl and a spoon.”</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the child the bowl and spoon.</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3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ea typeface="ＭＳ Ｐゴシック"/>
              </a:rPr>
              <a:t>Why use visual strategies?</a:t>
            </a:r>
            <a:endParaRPr b="0" lang="en-US" sz="3600" spc="-1" strike="noStrike">
              <a:solidFill>
                <a:srgbClr val="000000"/>
              </a:solidFill>
              <a:latin typeface="Constantia"/>
            </a:endParaRPr>
          </a:p>
        </p:txBody>
      </p:sp>
      <p:pic>
        <p:nvPicPr>
          <p:cNvPr id="318" name="Picture 3" descr=""/>
          <p:cNvPicPr/>
          <p:nvPr/>
        </p:nvPicPr>
        <p:blipFill>
          <a:blip r:embed="rId2"/>
          <a:stretch/>
        </p:blipFill>
        <p:spPr>
          <a:xfrm>
            <a:off x="2743200" y="34290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ren with ASD are visual learners</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akes concepts concrete</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mproves focus and attention</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duces anxiety</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mproves communication </a:t>
            </a:r>
            <a:endParaRPr b="0" lang="en-US" sz="2600" spc="-1" strike="noStrike">
              <a:solidFill>
                <a:srgbClr val="000000"/>
              </a:solidFill>
              <a:latin typeface="Constantia"/>
            </a:endParaRPr>
          </a:p>
          <a:p>
            <a:pPr marL="256320" indent="-25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Rao &amp; Gagie, 2009; Tiss0t &amp; Evans, 2003)</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ode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v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deo</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ocial Stori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crip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Live Modeling</a:t>
            </a:r>
            <a:endParaRPr b="0" lang="en-US" sz="5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lso known as “in vivo model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ild observes an individual demonstrating a desired behavior</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ents, peers, other adults/children</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Goal is for child imitate and use the desired behavior in other situ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Charlop-Christy, Le, &amp; Freeman, 2000;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Prelock, 2006, p. 420)</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Live Modeling</a:t>
            </a:r>
            <a:endParaRPr b="0" lang="en-US" sz="50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enefit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in improving social and communication skills</a:t>
            </a:r>
            <a:endParaRPr b="0" lang="en-US" sz="2400" spc="-1" strike="noStrike">
              <a:solidFill>
                <a:srgbClr val="000000"/>
              </a:solidFill>
              <a:latin typeface="Constantia"/>
            </a:endParaRPr>
          </a:p>
          <a:p>
            <a:pPr lvl="1" marL="594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ed by a variety of individuals </a:t>
            </a:r>
            <a:endParaRPr b="0" lang="en-US" sz="2400" spc="-1" strike="noStrike">
              <a:solidFill>
                <a:srgbClr val="000000"/>
              </a:solidFill>
              <a:latin typeface="Constantia"/>
            </a:endParaRPr>
          </a:p>
          <a:p>
            <a:pPr lvl="2" marL="850320" indent="-22896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rents, siblings, teachers, etc.  </a:t>
            </a:r>
            <a:endParaRPr b="0" lang="en-US" sz="2100" spc="-1" strike="noStrike">
              <a:solidFill>
                <a:srgbClr val="000000"/>
              </a:solidFill>
              <a:latin typeface="Constantia"/>
            </a:endParaRPr>
          </a:p>
          <a:p>
            <a:pPr lvl="2" marL="850320" indent="-22896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d in a variety of settings and situation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harlop-Christy, Le, &amp; Freeman, 2000;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Prelock, 2006</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fontScale="98000"/>
          </a:bodyPr>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Expressive Language</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lalia-Repeating what is said</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mediate</a:t>
            </a:r>
            <a:endParaRPr b="0" lang="en-US" sz="21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layed</a:t>
            </a:r>
            <a:endParaRPr b="0" lang="en-US" sz="21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expressing wants/need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or Vocabular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with Pronou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with non-literal aspects of language</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duced sentence length</a:t>
            </a:r>
            <a:endParaRPr b="0" lang="en-US" sz="2400" spc="-1" strike="noStrike">
              <a:solidFill>
                <a:srgbClr val="000000"/>
              </a:solidFill>
              <a:latin typeface="Constantia"/>
            </a:endParaRPr>
          </a:p>
          <a:p>
            <a:pPr lvl="1" marL="626760" indent="-2408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SHA, 2009b; Prelock, 2006)</a:t>
            </a:r>
            <a:endParaRPr b="0" lang="en-US" sz="24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deo Modeling</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Child watches videos of an individual demonstrating a desired behavior</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3240" indent="-24336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Others</a:t>
            </a:r>
            <a:endParaRPr b="0" lang="en-US" sz="19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arents, peers, other adults/children</a:t>
            </a:r>
            <a:endParaRPr b="0" lang="en-US" sz="1600" spc="-1" strike="noStrike">
              <a:solidFill>
                <a:srgbClr val="000000"/>
              </a:solidFill>
              <a:latin typeface="Constantia"/>
            </a:endParaRPr>
          </a:p>
          <a:p>
            <a:pPr lvl="2" marL="905040" indent="-2437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lf</a:t>
            </a: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gain, goal is for child imitate and use the desired behavior in other situations</a:t>
            </a:r>
            <a:endParaRPr b="0" lang="en-US" sz="20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Buggey, 2005; Delano, 2007; Hitchcock, Dowrick, &amp; Prater, 2003;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Sherer et al., 2001)</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deo Modeling</a:t>
            </a:r>
            <a:endParaRPr b="0" lang="en-US" sz="5000" spc="-1" strike="noStrike">
              <a:solidFill>
                <a:srgbClr val="04617b"/>
              </a:solidFill>
              <a:latin typeface="Calibri"/>
            </a:endParaRPr>
          </a:p>
        </p:txBody>
      </p:sp>
      <p:sp>
        <p:nvSpPr>
          <p:cNvPr id="3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Benef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ffective in improving social and communication skill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usally obtain quicker results than live modeling</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be used repeatedly in a variety settings and by different individual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Baharav &amp; Darling, 2008; Charlop-Christy, Le, &amp;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Freeman, 2000; Delano, 2007; McCoy &amp;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Hermensen, 2007)</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odeling Considerations</a:t>
            </a: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First, choose a behavior to teach</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a:t>
            </a: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ying “hello”/ “by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swering question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versational skills</a:t>
            </a:r>
            <a:endParaRPr b="0" lang="en-US" sz="2100" spc="-1" strike="noStrike">
              <a:solidFill>
                <a:srgbClr val="000000"/>
              </a:solidFill>
              <a:latin typeface="Constantia"/>
            </a:endParaRPr>
          </a:p>
          <a:p>
            <a:pPr lvl="3" marL="1175400" indent="-20736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urn-taking</a:t>
            </a:r>
            <a:endParaRPr b="0" lang="en-US" sz="20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harlop-Christy, 2004)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odeling Considerations</a:t>
            </a:r>
            <a:endParaRPr b="0" lang="en-US" sz="5000" spc="-1" strike="noStrike">
              <a:solidFill>
                <a:srgbClr val="04617b"/>
              </a:solidFill>
              <a:latin typeface="Calibri"/>
            </a:endParaRPr>
          </a:p>
        </p:txBody>
      </p:sp>
      <p:pic>
        <p:nvPicPr>
          <p:cNvPr id="334" name="Content Placeholder 2" descr=""/>
          <p:cNvPicPr/>
          <p:nvPr/>
        </p:nvPicPr>
        <p:blipFill>
          <a:blip r:embed="rId2"/>
          <a:stretch/>
        </p:blipFill>
        <p:spPr>
          <a:xfrm>
            <a:off x="450720" y="1932120"/>
            <a:ext cx="8242560" cy="470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ocial Storie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stories that are written from the child’s point-of-view</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information about a social situation and how to respond appropriately</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s involved</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rder of events in the situation</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eelings of other/self</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31960" indent="-22392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vey, Heflin &amp; Alberto, 2004; </a:t>
            </a:r>
            <a:endParaRPr b="0" lang="en-US" sz="2100" spc="-1" strike="noStrike">
              <a:solidFill>
                <a:srgbClr val="000000"/>
              </a:solidFill>
              <a:latin typeface="Constantia"/>
            </a:endParaRPr>
          </a:p>
          <a:p>
            <a:pPr lvl="2" marL="831960" indent="-22392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nsosti &amp; Powel-Smith, 2008)</a:t>
            </a:r>
            <a:endParaRPr b="0" lang="en-US" sz="21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ocial Stories</a:t>
            </a:r>
            <a:endParaRPr b="0" lang="en-US" sz="5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enefits</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duces problem behaviors</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social communication</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s appropriate social interac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96040" indent="-24120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rozier &amp; Tincani, 2005; Thiemann &amp; Goldstein, 2001;</a:t>
            </a:r>
            <a:endParaRPr b="0" lang="en-US" sz="2100" spc="-1" strike="noStrike">
              <a:solidFill>
                <a:srgbClr val="000000"/>
              </a:solidFill>
              <a:latin typeface="Constantia"/>
            </a:endParaRPr>
          </a:p>
          <a:p>
            <a:pPr lvl="2" marL="896040" indent="-24120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vey, Heflin &amp; Alberto, 2004; Sansosti &amp; Powel-Smith, 2008)</a:t>
            </a:r>
            <a:endParaRPr b="0" lang="en-US" sz="21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Social Story</a:t>
            </a:r>
            <a:endParaRPr b="0" lang="en-US" sz="50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u="sng">
                <a:solidFill>
                  <a:srgbClr val="e2d700"/>
                </a:solidFill>
                <a:uFillTx/>
                <a:latin typeface="Constantia"/>
                <a:ea typeface="ＭＳ Ｐゴシック"/>
                <a:hlinkClick r:id="rId2"/>
              </a:rPr>
              <a:t>http://www.frsd.k12.nj.us/autistic/Social%20Stories/Pages/asking_other_kids_to_play.htm</a:t>
            </a:r>
            <a:r>
              <a:rPr b="0" lang="en-US" sz="2600" spc="-1" strike="noStrike">
                <a:solidFill>
                  <a:srgbClr val="000000"/>
                </a:solidFill>
                <a:latin typeface="Constantia"/>
                <a:ea typeface="ＭＳ Ｐゴシック"/>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42"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ripts</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to teach social and conversational skills</a:t>
            </a: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ught using modeling, cues, and reinforcement</a:t>
            </a: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cript is written on a cue card</a:t>
            </a:r>
            <a:endParaRPr b="0" lang="en-US" sz="2200" spc="-1" strike="noStrike">
              <a:solidFill>
                <a:srgbClr val="000000"/>
              </a:solidFill>
              <a:latin typeface="Constantia"/>
            </a:endParaRPr>
          </a:p>
          <a:p>
            <a:pPr lvl="2" marL="905040" indent="-2437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y include pictures or other symbols depending on individual’s reading level</a:t>
            </a:r>
            <a:endParaRPr b="0" lang="en-US" sz="1900" spc="-1" strike="noStrike">
              <a:solidFill>
                <a:srgbClr val="000000"/>
              </a:solidFill>
              <a:latin typeface="Constantia"/>
            </a:endParaRPr>
          </a:p>
          <a:p>
            <a:pPr lvl="2" marL="905040" indent="-2437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y be tape-recorded</a:t>
            </a:r>
            <a:endParaRPr b="0" lang="en-US" sz="1900" spc="-1" strike="noStrike">
              <a:solidFill>
                <a:srgbClr val="000000"/>
              </a:solidFill>
              <a:latin typeface="Constantia"/>
            </a:endParaRPr>
          </a:p>
          <a:p>
            <a:pPr lvl="2" marL="905040" indent="-243720">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000" spc="-1" strike="noStrike">
                <a:solidFill>
                  <a:srgbClr val="000000"/>
                </a:solidFill>
                <a:latin typeface="Constantia"/>
              </a:rPr>
              <a:t>(Charlop-Christy &amp; Kelso, 2003; </a:t>
            </a:r>
            <a:endParaRPr b="0" lang="en-US" sz="2000" spc="-1" strike="noStrike">
              <a:solidFill>
                <a:srgbClr val="000000"/>
              </a:solidFill>
              <a:latin typeface="Constantia"/>
            </a:endParaRPr>
          </a:p>
          <a:p>
            <a:pPr lvl="1" marL="633240" indent="-24336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nz, Kaylor, Bourgeous, &amp; Hadden, 2008)</a:t>
            </a:r>
            <a:endParaRPr b="0" lang="en-US" sz="20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05040" indent="-2437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s</a:t>
            </a:r>
            <a:endParaRPr b="0" lang="en-US" sz="5000" spc="-1" strike="noStrike">
              <a:solidFill>
                <a:srgbClr val="04617b"/>
              </a:solidFill>
              <a:latin typeface="Calibri"/>
            </a:endParaRPr>
          </a:p>
        </p:txBody>
      </p:sp>
      <p:sp>
        <p:nvSpPr>
          <p:cNvPr id="34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Scripting process:</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ult asks a question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sents cue card to individual containing the response</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is told to read the response out loud</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ult then instructs the individual to read the response while maintaining eye contact</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cess is repeated until conversation is finished</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reinforcement</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rbal praise – “Great job!”</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ferred food, toy, or activity</a:t>
            </a:r>
            <a:endParaRPr b="0" lang="en-US" sz="1900" spc="-1" strike="noStrike">
              <a:solidFill>
                <a:srgbClr val="000000"/>
              </a:solidFill>
              <a:latin typeface="Constantia"/>
            </a:endParaRPr>
          </a:p>
          <a:p>
            <a:pPr lvl="1" marL="626760" indent="-240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harlop-Christy &amp; Kelso, 2003; </a:t>
            </a:r>
            <a:endParaRPr b="0" lang="en-US" sz="2000" spc="-1" strike="noStrike">
              <a:solidFill>
                <a:srgbClr val="000000"/>
              </a:solidFill>
              <a:latin typeface="Constantia"/>
            </a:endParaRPr>
          </a:p>
          <a:p>
            <a:pPr lvl="1" marL="626760" indent="-240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nz, Kaylor, Bourgeous, &amp; Hadden, 2008)</a:t>
            </a:r>
            <a:endParaRPr b="0" lang="en-US" sz="2000" spc="-1" strike="noStrike">
              <a:solidFill>
                <a:srgbClr val="000000"/>
              </a:solidFill>
              <a:latin typeface="Constantia"/>
            </a:endParaRPr>
          </a:p>
          <a:p>
            <a:pPr lvl="2" marL="896040" indent="-241200">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26760" indent="-24084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 Example</a:t>
            </a:r>
            <a:endParaRPr b="0" lang="en-US" sz="50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Do you like to watch T.V.?</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Yes.  Do you like to watch T.V.?</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Yes.  What’s your favorite show?</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Power Rangers.  What show do you lik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Cheers.  Do you watch video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Yes.  Can we watch a video?</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Su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Charlop-Christy &amp; Kelso, 2003, p. 125)</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ceptive Language</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following direction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answering ques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ragmatic Language</a:t>
            </a: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Language</a:t>
            </a:r>
            <a:endParaRPr b="0" lang="en-US" sz="24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fficulty with Initiating and Maintaining a Conversation</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fficulty understanding Facial Expressions/Body Language</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or Eye Contact</a:t>
            </a:r>
            <a:endParaRPr b="0" lang="en-US" sz="2100" spc="-1" strike="noStrike">
              <a:solidFill>
                <a:srgbClr val="000000"/>
              </a:solidFill>
              <a:latin typeface="Constantia"/>
            </a:endParaRPr>
          </a:p>
          <a:p>
            <a:pPr lvl="2" marL="868680" indent="-2336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ASHA, 2009b; Prelock, 2006)</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s</a:t>
            </a:r>
            <a:endParaRPr b="0" lang="en-US" sz="50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nefit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conversational skill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social interactions</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ers</a:t>
            </a:r>
            <a:endParaRPr b="0" lang="en-US" sz="21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ults</a:t>
            </a:r>
            <a:endParaRPr b="0" lang="en-US" sz="21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reases echolalia and speech perseverations</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amp; Kelso, 2003; Ganz, Kaylor, Bourgeouis, &amp; Hadden,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sour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ardmak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mayer-johnson.com/MainBoardmaker.aspx</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Clip Ar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ing with Symbo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mayer-johnson.com/ProdDesc.aspx?SKU=M165</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source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xWrit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slatersoftware.com/pixwriter.html</a:t>
            </a:r>
            <a:endParaRPr b="0" lang="en-US" sz="21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Camer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gle Imag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google.com</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Conclusion</a:t>
            </a:r>
            <a:endParaRPr b="0" lang="en-US" sz="5000" spc="-1" strike="noStrike">
              <a:solidFill>
                <a:srgbClr val="04617b"/>
              </a:solidFill>
              <a:latin typeface="Calibri"/>
            </a:endParaRPr>
          </a:p>
        </p:txBody>
      </p:sp>
      <p:sp>
        <p:nvSpPr>
          <p:cNvPr id="354"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ommunication is a complex proces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pecially difficult for individuals with autism</a:t>
            </a: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hree Functions of Communication</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gulate Behavior</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Interaction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int Attention</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Pyschiatric Association, 2000; Hedge, 2001; Prelock, 2006)</a:t>
            </a:r>
            <a:endParaRPr b="0" lang="en-US" sz="20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Conclusion</a:t>
            </a:r>
            <a:endParaRPr b="0" lang="en-US"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Many available methods of communicatio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oose the one that best fits the communication needs of your child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ommunications Strategies for in the Home</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uralistic Language Teaching</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int Action Routine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sual Strategies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886680" indent="-238680" algn="r">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HA, 2009a; Charlop-Christy &amp; Kelso, 2003; Goldstein, 2002; Harris &amp; Delmolino, 2002; Ivey,Heflin &amp; Alberto, 2004; </a:t>
            </a:r>
            <a:endParaRPr b="0" lang="en-US" sz="1900" spc="-1" strike="noStrike">
              <a:solidFill>
                <a:srgbClr val="000000"/>
              </a:solidFill>
              <a:latin typeface="Constantia"/>
            </a:endParaRPr>
          </a:p>
          <a:p>
            <a:pPr lvl="2" marL="886680" indent="-238680" algn="r">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lock, 2006; Sansosti &amp; Powel-Smith, 2008; Tissot &amp; Evans, 2003)</a:t>
            </a:r>
            <a:endParaRPr b="0" lang="en-US" sz="19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3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OPPORTUNITIES TO COMMUNICATE ARE EVERYWHERE!!!</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aptAble Minds.  (n. d.).  </a:t>
            </a:r>
            <a:r>
              <a:rPr b="0" i="1" lang="en-US" sz="2000" spc="-1" strike="noStrike">
                <a:solidFill>
                  <a:srgbClr val="000000"/>
                </a:solidFill>
                <a:latin typeface="Constantia"/>
              </a:rPr>
              <a:t>AAC systems.  </a:t>
            </a:r>
            <a:r>
              <a:rPr b="0" lang="en-US" sz="2000" spc="-1" strike="noStrike">
                <a:solidFill>
                  <a:srgbClr val="000000"/>
                </a:solidFill>
                <a:latin typeface="Constantia"/>
              </a:rPr>
              <a:t>Retrieved January 24, 2009, </a:t>
            </a:r>
            <a:r>
              <a:rPr b="0" lang="en-US" sz="2000" spc="-1" strike="noStrike">
                <a:solidFill>
                  <a:srgbClr val="000000"/>
                </a:solidFill>
                <a:latin typeface="Constantia"/>
              </a:rPr>
              <a:t>	</a:t>
            </a:r>
            <a:r>
              <a:rPr b="0" lang="en-US" sz="2000" spc="-1" strike="noStrike">
                <a:solidFill>
                  <a:srgbClr val="000000"/>
                </a:solidFill>
                <a:latin typeface="Constantia"/>
              </a:rPr>
              <a:t>from </a:t>
            </a:r>
            <a:r>
              <a:rPr b="0" lang="en-US" sz="2000" spc="-1" strike="noStrike" u="sng">
                <a:solidFill>
                  <a:srgbClr val="000000"/>
                </a:solidFill>
                <a:uFillTx/>
                <a:latin typeface="Constantia"/>
              </a:rPr>
              <a:t>www.adaptableminds.com/ </a:t>
            </a:r>
            <a:r>
              <a:rPr b="0" lang="en-US" sz="2000" spc="-1" strike="noStrike">
                <a:solidFill>
                  <a:srgbClr val="000000"/>
                </a:solidFill>
                <a:latin typeface="Constantia"/>
              </a:rPr>
              <a:t>AACpage2.htm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Psychiatric Association. (2000). </a:t>
            </a:r>
            <a:r>
              <a:rPr b="0" i="1" lang="en-US" sz="2000" spc="-1" strike="noStrike">
                <a:solidFill>
                  <a:srgbClr val="000000"/>
                </a:solidFill>
                <a:latin typeface="Constantia"/>
              </a:rPr>
              <a:t>Diagnostic and </a:t>
            </a:r>
            <a:r>
              <a:rPr b="0" i="1" lang="en-US" sz="2000" spc="-1" strike="noStrike">
                <a:solidFill>
                  <a:srgbClr val="000000"/>
                </a:solidFill>
                <a:latin typeface="Constantia"/>
              </a:rPr>
              <a:t>	</a:t>
            </a:r>
            <a:r>
              <a:rPr b="0" i="1" lang="en-US" sz="2000" spc="-1" strike="noStrike">
                <a:solidFill>
                  <a:srgbClr val="000000"/>
                </a:solidFill>
                <a:latin typeface="Constantia"/>
              </a:rPr>
              <a:t>statistical manual of mental disorders </a:t>
            </a:r>
            <a:r>
              <a:rPr b="0" lang="en-US" sz="2000" spc="-1" strike="noStrike">
                <a:solidFill>
                  <a:srgbClr val="000000"/>
                </a:solidFill>
                <a:latin typeface="Constantia"/>
              </a:rPr>
              <a:t>(text revision). </a:t>
            </a:r>
            <a:r>
              <a:rPr b="0" lang="en-US" sz="2000" spc="-1" strike="noStrike">
                <a:solidFill>
                  <a:srgbClr val="000000"/>
                </a:solidFill>
                <a:latin typeface="Constantia"/>
              </a:rPr>
              <a:t>	</a:t>
            </a:r>
            <a:r>
              <a:rPr b="0" lang="en-US" sz="2000" spc="-1" strike="noStrike">
                <a:solidFill>
                  <a:srgbClr val="000000"/>
                </a:solidFill>
                <a:latin typeface="Constantia"/>
              </a:rPr>
              <a:t>Washington, DC: Author.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Speech-Language-Hearing Association.  (2009a).  </a:t>
            </a:r>
            <a:r>
              <a:rPr b="0" i="1" lang="en-US" sz="2000" spc="-1" strike="noStrike">
                <a:solidFill>
                  <a:srgbClr val="000000"/>
                </a:solidFill>
                <a:latin typeface="Constantia"/>
              </a:rPr>
              <a:t>AAC-</a:t>
            </a:r>
            <a:r>
              <a:rPr b="0" i="1" lang="en-US" sz="2000" spc="-1" strike="noStrike">
                <a:solidFill>
                  <a:srgbClr val="000000"/>
                </a:solidFill>
                <a:latin typeface="Constantia"/>
              </a:rPr>
              <a:t>	</a:t>
            </a:r>
            <a:r>
              <a:rPr b="0" i="1" lang="en-US" sz="2000" spc="-1" strike="noStrike">
                <a:solidFill>
                  <a:srgbClr val="000000"/>
                </a:solidFill>
                <a:latin typeface="Constantia"/>
              </a:rPr>
              <a:t>basic Information:  Communication services and supports for </a:t>
            </a:r>
            <a:r>
              <a:rPr b="0" i="1" lang="en-US" sz="2000" spc="-1" strike="noStrike">
                <a:solidFill>
                  <a:srgbClr val="000000"/>
                </a:solidFill>
                <a:latin typeface="Constantia"/>
              </a:rPr>
              <a:t>	</a:t>
            </a:r>
            <a:r>
              <a:rPr b="0" i="1" lang="en-US" sz="2000" spc="-1" strike="noStrike">
                <a:solidFill>
                  <a:srgbClr val="000000"/>
                </a:solidFill>
                <a:latin typeface="Constantia"/>
              </a:rPr>
              <a:t>individuals with severe disabilities:  FAQs.  </a:t>
            </a:r>
            <a:r>
              <a:rPr b="0" lang="en-US" sz="2000" spc="-1" strike="noStrike">
                <a:solidFill>
                  <a:srgbClr val="000000"/>
                </a:solidFill>
                <a:latin typeface="Constantia"/>
              </a:rPr>
              <a:t>Retrieved January 20, </a:t>
            </a:r>
            <a:r>
              <a:rPr b="0" lang="en-US" sz="2000" spc="-1" strike="noStrike">
                <a:solidFill>
                  <a:srgbClr val="000000"/>
                </a:solidFill>
                <a:latin typeface="Constantia"/>
              </a:rPr>
              <a:t>	</a:t>
            </a:r>
            <a:r>
              <a:rPr b="0" lang="en-US" sz="2000" spc="-1" strike="noStrike">
                <a:solidFill>
                  <a:srgbClr val="000000"/>
                </a:solidFill>
                <a:latin typeface="Constantia"/>
              </a:rPr>
              <a:t>2009, from http://www.asha.org/NJC/faqs-aac-basics.htm.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merican Speech-Language Hearing Association.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009b).  </a:t>
            </a:r>
            <a:r>
              <a:rPr b="0" i="1" lang="en-US" sz="2400" spc="-1" strike="noStrike">
                <a:solidFill>
                  <a:srgbClr val="000000"/>
                </a:solidFill>
                <a:latin typeface="Constantia"/>
                <a:ea typeface="ＭＳ Ｐゴシック"/>
              </a:rPr>
              <a:t>Autism (Autism spectrum disorder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Retrieved January 18, 2009, from http://</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www.asha.org/public/speech/disorders/Autism.htm.</a:t>
            </a:r>
            <a:r>
              <a:rPr b="0" i="1"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Baharav, E., &amp; Darling, R.  (2008).  Case report:  Using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n auditory trainer with caregiver video modeling to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enhance communication and socialization behaviors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 autism.  </a:t>
            </a:r>
            <a:r>
              <a:rPr b="0" i="1" lang="en-US" sz="2400" spc="-1" strike="noStrike">
                <a:solidFill>
                  <a:srgbClr val="000000"/>
                </a:solidFill>
                <a:latin typeface="Constantia"/>
                <a:ea typeface="ＭＳ Ｐゴシック"/>
              </a:rPr>
              <a:t>Journal of Autism and Developmental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Disorders, 38, </a:t>
            </a:r>
            <a:r>
              <a:rPr b="0" lang="en-US" sz="2400" spc="-1" strike="noStrike">
                <a:solidFill>
                  <a:srgbClr val="000000"/>
                </a:solidFill>
                <a:latin typeface="Constantia"/>
                <a:ea typeface="ＭＳ Ｐゴシック"/>
              </a:rPr>
              <a:t>771-775.  Retrieved January 19,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009,from ERIC database.  </a:t>
            </a:r>
            <a:r>
              <a:rPr b="0" i="1"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lischak, D., Lombardino, L., &amp; Dyson, A.  (2003).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Use of speech-generating devices:  In support of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natural speech.  </a:t>
            </a:r>
            <a:r>
              <a:rPr b="0" i="1" lang="en-US" sz="2600" spc="-1" strike="noStrike">
                <a:solidFill>
                  <a:srgbClr val="000000"/>
                </a:solidFill>
                <a:latin typeface="Constantia"/>
                <a:ea typeface="ＭＳ Ｐゴシック"/>
              </a:rPr>
              <a:t>Augmentative and Alternati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Communication, 19</a:t>
            </a:r>
            <a:r>
              <a:rPr b="0" lang="en-US" sz="2600" spc="-1" strike="noStrike">
                <a:solidFill>
                  <a:srgbClr val="000000"/>
                </a:solidFill>
                <a:latin typeface="Constantia"/>
                <a:ea typeface="ＭＳ Ｐゴシック"/>
              </a:rPr>
              <a:t>(1), 29-35.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uggey, T.  (2005).  Video modeling applications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with students with autism spectrum disorder in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mall private school setting.  </a:t>
            </a:r>
            <a:r>
              <a:rPr b="0" i="1" lang="en-US" sz="2600" spc="-1" strike="noStrike">
                <a:solidFill>
                  <a:srgbClr val="000000"/>
                </a:solidFill>
                <a:latin typeface="Constantia"/>
                <a:ea typeface="ＭＳ Ｐゴシック"/>
              </a:rPr>
              <a:t>Focus on Autism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and Other Developmental Disabilities, 20, </a:t>
            </a:r>
            <a:r>
              <a:rPr b="0" lang="en-US" sz="2600" spc="-1" strike="noStrike">
                <a:solidFill>
                  <a:srgbClr val="000000"/>
                </a:solidFill>
                <a:latin typeface="Constantia"/>
                <a:ea typeface="ＭＳ Ｐゴシック"/>
              </a:rPr>
              <a:t>52-6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arlop-Christy, M. H.  (2004).  </a:t>
            </a:r>
            <a:r>
              <a:rPr b="0" i="1" lang="en-US" sz="2400" spc="-1" strike="noStrike">
                <a:solidFill>
                  <a:srgbClr val="000000"/>
                </a:solidFill>
                <a:latin typeface="Constantia"/>
                <a:ea typeface="ＭＳ Ｐゴシック"/>
              </a:rPr>
              <a:t>Using video modeling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to teach perspective taking to children with autism.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Presentation at the annual Vermont Summer Autism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stitute, Burlingto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arlop-Christy, M. H., Carpenter, M., Le, L., LeBlanc, L.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 &amp; Kellet, K.  (2002).  Using the picture exchange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communication system (PECS) with children with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utism:  Assessment of PECS acquisition, speech,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social-communicative behavior and problem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behavior.  </a:t>
            </a:r>
            <a:r>
              <a:rPr b="0" i="1" lang="en-US" sz="2400" spc="-1" strike="noStrike">
                <a:solidFill>
                  <a:srgbClr val="000000"/>
                </a:solidFill>
                <a:latin typeface="Constantia"/>
                <a:ea typeface="ＭＳ Ｐゴシック"/>
              </a:rPr>
              <a:t>Journal of Applied Behavior Analysis, 35,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13-231.</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Functions of Communica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M. H., &amp; Kelso, S. E.  (2003).  Teaching </a:t>
            </a:r>
            <a:r>
              <a:rPr b="0" lang="en-US" sz="2400" spc="-1" strike="noStrike">
                <a:solidFill>
                  <a:srgbClr val="000000"/>
                </a:solidFill>
                <a:latin typeface="Constantia"/>
              </a:rPr>
              <a:t>	</a:t>
            </a:r>
            <a:r>
              <a:rPr b="0" lang="en-US" sz="2400" spc="-1" strike="noStrike">
                <a:solidFill>
                  <a:srgbClr val="000000"/>
                </a:solidFill>
                <a:latin typeface="Constantia"/>
              </a:rPr>
              <a:t>children with autism conversational speech using a </a:t>
            </a:r>
            <a:r>
              <a:rPr b="0" lang="en-US" sz="2400" spc="-1" strike="noStrike">
                <a:solidFill>
                  <a:srgbClr val="000000"/>
                </a:solidFill>
                <a:latin typeface="Constantia"/>
              </a:rPr>
              <a:t>	</a:t>
            </a:r>
            <a:r>
              <a:rPr b="0" lang="en-US" sz="2400" spc="-1" strike="noStrike">
                <a:solidFill>
                  <a:srgbClr val="000000"/>
                </a:solidFill>
                <a:latin typeface="Constantia"/>
              </a:rPr>
              <a:t>cue card/written script program.  </a:t>
            </a:r>
            <a:r>
              <a:rPr b="0" i="1" lang="en-US" sz="2400" spc="-1" strike="noStrike">
                <a:solidFill>
                  <a:srgbClr val="000000"/>
                </a:solidFill>
                <a:latin typeface="Constantia"/>
              </a:rPr>
              <a:t>Education &amp; </a:t>
            </a:r>
            <a:r>
              <a:rPr b="0" i="1" lang="en-US" sz="2400" spc="-1" strike="noStrike">
                <a:solidFill>
                  <a:srgbClr val="000000"/>
                </a:solidFill>
                <a:latin typeface="Constantia"/>
              </a:rPr>
              <a:t>	</a:t>
            </a:r>
            <a:r>
              <a:rPr b="0" i="1" lang="en-US" sz="2400" spc="-1" strike="noStrike">
                <a:solidFill>
                  <a:srgbClr val="000000"/>
                </a:solidFill>
                <a:latin typeface="Constantia"/>
              </a:rPr>
              <a:t>Treatment of Children, 26</a:t>
            </a:r>
            <a:r>
              <a:rPr b="0" lang="en-US" sz="2400" spc="-1" strike="noStrike">
                <a:solidFill>
                  <a:srgbClr val="000000"/>
                </a:solidFill>
                <a:latin typeface="Constantia"/>
              </a:rPr>
              <a:t>(2), 108-127.  Retrieved </a:t>
            </a:r>
            <a:r>
              <a:rPr b="0" lang="en-US" sz="2400" spc="-1" strike="noStrike">
                <a:solidFill>
                  <a:srgbClr val="000000"/>
                </a:solidFill>
                <a:latin typeface="Constantia"/>
              </a:rPr>
              <a:t>	</a:t>
            </a:r>
            <a:r>
              <a:rPr b="0" lang="en-US" sz="2400" spc="-1" strike="noStrike">
                <a:solidFill>
                  <a:srgbClr val="000000"/>
                </a:solidFill>
                <a:latin typeface="Constantia"/>
              </a:rPr>
              <a:t>January 20, 2009, from ProQuest database.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M. H., Le, L., &amp; Freeman, K. A.  </a:t>
            </a:r>
            <a:r>
              <a:rPr b="0" lang="en-US" sz="2400" spc="-1" strike="noStrike">
                <a:solidFill>
                  <a:srgbClr val="000000"/>
                </a:solidFill>
                <a:latin typeface="Constantia"/>
              </a:rPr>
              <a:t>	</a:t>
            </a:r>
            <a:r>
              <a:rPr b="0" lang="en-US" sz="2400" spc="-1" strike="noStrike">
                <a:solidFill>
                  <a:srgbClr val="000000"/>
                </a:solidFill>
                <a:latin typeface="Constantia"/>
              </a:rPr>
              <a:t>(2000).  A comparison of video modeling with in </a:t>
            </a:r>
            <a:r>
              <a:rPr b="0" lang="en-US" sz="2400" spc="-1" strike="noStrike">
                <a:solidFill>
                  <a:srgbClr val="000000"/>
                </a:solidFill>
                <a:latin typeface="Constantia"/>
              </a:rPr>
              <a:t>	</a:t>
            </a:r>
            <a:r>
              <a:rPr b="0" lang="en-US" sz="2400" spc="-1" strike="noStrike">
                <a:solidFill>
                  <a:srgbClr val="000000"/>
                </a:solidFill>
                <a:latin typeface="Constantia"/>
              </a:rPr>
              <a:t>vivo modeling for teaching children with autism.  </a:t>
            </a:r>
            <a:r>
              <a:rPr b="0" lang="en-US" sz="2400" spc="-1" strike="noStrike">
                <a:solidFill>
                  <a:srgbClr val="000000"/>
                </a:solidFill>
                <a:latin typeface="Constantia"/>
              </a:rPr>
              <a:t>	</a:t>
            </a:r>
            <a:r>
              <a:rPr b="0" i="1" lang="en-US" sz="2400" spc="-1" strike="noStrike">
                <a:solidFill>
                  <a:srgbClr val="000000"/>
                </a:solidFill>
                <a:latin typeface="Constantia"/>
              </a:rPr>
              <a:t>Journal of Autism and Developmental Disorders, </a:t>
            </a:r>
            <a:r>
              <a:rPr b="0" i="1" lang="en-US" sz="2400" spc="-1" strike="noStrike">
                <a:solidFill>
                  <a:srgbClr val="000000"/>
                </a:solidFill>
                <a:latin typeface="Constantia"/>
              </a:rPr>
              <a:t>	</a:t>
            </a:r>
            <a:r>
              <a:rPr b="0" i="1" lang="en-US" sz="2400" spc="-1" strike="noStrike">
                <a:solidFill>
                  <a:srgbClr val="000000"/>
                </a:solidFill>
                <a:latin typeface="Constantia"/>
              </a:rPr>
              <a:t>30, </a:t>
            </a:r>
            <a:r>
              <a:rPr b="0" lang="en-US" sz="2400" spc="-1" strike="noStrike">
                <a:solidFill>
                  <a:srgbClr val="000000"/>
                </a:solidFill>
                <a:latin typeface="Constantia"/>
              </a:rPr>
              <a:t>537-552.  Retrieved January 19, 2009, from </a:t>
            </a:r>
            <a:r>
              <a:rPr b="0" lang="en-US" sz="2400" spc="-1" strike="noStrike">
                <a:solidFill>
                  <a:srgbClr val="000000"/>
                </a:solidFill>
                <a:latin typeface="Constantia"/>
              </a:rPr>
              <a:t>	</a:t>
            </a:r>
            <a:r>
              <a:rPr b="0" lang="en-US" sz="2400" spc="-1" strike="noStrike">
                <a:solidFill>
                  <a:srgbClr val="000000"/>
                </a:solidFill>
                <a:latin typeface="Constantia"/>
              </a:rPr>
              <a:t>ProQuest database. </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rozier, S., &amp; Tincani, M. J. (2005). Using a modifie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ocial Story to decrease disruptive behavior of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child with autism. </a:t>
            </a:r>
            <a:r>
              <a:rPr b="0" i="1" lang="en-US" sz="2600" spc="-1" strike="noStrike">
                <a:solidFill>
                  <a:srgbClr val="000000"/>
                </a:solidFill>
                <a:latin typeface="Constantia"/>
                <a:ea typeface="ＭＳ Ｐゴシック"/>
              </a:rPr>
              <a:t>Focus on Autism and Other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evelopmental Disabilities, 20</a:t>
            </a:r>
            <a:r>
              <a:rPr b="0" lang="en-US" sz="2600" spc="-1" strike="noStrike">
                <a:solidFill>
                  <a:srgbClr val="000000"/>
                </a:solidFill>
                <a:latin typeface="Constantia"/>
                <a:ea typeface="ＭＳ Ｐゴシック"/>
              </a:rPr>
              <a:t>(3), 150-157.</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Delano, M. E.  (2007).  Video modeling interventions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for individuals with autism.  </a:t>
            </a:r>
            <a:r>
              <a:rPr b="0" i="1" lang="en-US" sz="2600" spc="-1" strike="noStrike">
                <a:solidFill>
                  <a:srgbClr val="000000"/>
                </a:solidFill>
                <a:latin typeface="Constantia"/>
                <a:ea typeface="ＭＳ Ｐゴシック"/>
              </a:rPr>
              <a:t>Remedial an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a:t>
            </a:r>
            <a:r>
              <a:rPr b="0" lang="en-US" sz="2600" spc="-1" strike="noStrike">
                <a:solidFill>
                  <a:srgbClr val="000000"/>
                </a:solidFill>
                <a:latin typeface="Constantia"/>
                <a:ea typeface="ＭＳ Ｐゴシック"/>
              </a:rPr>
              <a:t>28(1), 33-42.  Retrieved Januar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19, 2009, from ProQuest database.  </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Downey, D., &amp; Hurtig, R.  (2003).  Augmentative an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lternative communication.  </a:t>
            </a:r>
            <a:r>
              <a:rPr b="0" i="1" lang="en-US" sz="2600" spc="-1" strike="noStrike">
                <a:solidFill>
                  <a:srgbClr val="000000"/>
                </a:solidFill>
                <a:latin typeface="Constantia"/>
                <a:ea typeface="ＭＳ Ｐゴシック"/>
              </a:rPr>
              <a:t>Pediatric Annuals,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32</a:t>
            </a:r>
            <a:r>
              <a:rPr b="0" lang="en-US" sz="2600" spc="-1" strike="noStrike">
                <a:solidFill>
                  <a:srgbClr val="000000"/>
                </a:solidFill>
                <a:latin typeface="Constantia"/>
                <a:ea typeface="ＭＳ Ｐゴシック"/>
              </a:rPr>
              <a:t>(7), 466-474.</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Dyches, T. T., Davis, A., Lucido, B. R., &amp; Young, J.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  (2002).  Generalization of skills using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pictographic and voice output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ommunication devices.  </a:t>
            </a:r>
            <a:r>
              <a:rPr b="0" i="1" lang="en-US" sz="2800" spc="-1" strike="noStrike">
                <a:solidFill>
                  <a:srgbClr val="000000"/>
                </a:solidFill>
                <a:latin typeface="Constantia"/>
                <a:ea typeface="ＭＳ Ｐゴシック"/>
              </a:rPr>
              <a:t>Augmentative and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Alternative Communication, 18, </a:t>
            </a:r>
            <a:r>
              <a:rPr b="0" lang="en-US" sz="2800" spc="-1" strike="noStrike">
                <a:solidFill>
                  <a:srgbClr val="000000"/>
                </a:solidFill>
                <a:latin typeface="Constantia"/>
                <a:ea typeface="ＭＳ Ｐゴシック"/>
              </a:rPr>
              <a:t>124-131.</a:t>
            </a:r>
            <a:r>
              <a:rPr b="0" i="1"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 </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ynaVox Technologies.  (2008).  </a:t>
            </a:r>
            <a:r>
              <a:rPr b="0" i="1" lang="en-US" sz="2200" spc="-1" strike="noStrike">
                <a:solidFill>
                  <a:srgbClr val="000000"/>
                </a:solidFill>
                <a:latin typeface="Constantia"/>
                <a:ea typeface="ＭＳ Ｐゴシック"/>
              </a:rPr>
              <a:t>V &amp; vmax.  </a:t>
            </a:r>
            <a:r>
              <a:rPr b="0" lang="en-US" sz="2200" spc="-1" strike="noStrike">
                <a:solidFill>
                  <a:srgbClr val="000000"/>
                </a:solidFill>
                <a:latin typeface="Constantia"/>
                <a:ea typeface="ＭＳ Ｐゴシック"/>
              </a:rPr>
              <a:t>Retrieved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January 24, 2009, from http://</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ww.dynavoxtech.com/products/v/.</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Flemington-Raritan Autism Program.  (2005).  </a:t>
            </a:r>
            <a:r>
              <a:rPr b="0" i="1" lang="en-US" sz="2200" spc="-1" strike="noStrike">
                <a:solidFill>
                  <a:srgbClr val="000000"/>
                </a:solidFill>
                <a:latin typeface="Constantia"/>
                <a:ea typeface="ＭＳ Ｐゴシック"/>
              </a:rPr>
              <a:t>Asking other kids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to play.  </a:t>
            </a:r>
            <a:r>
              <a:rPr b="0" lang="en-US" sz="2200" spc="-1" strike="noStrike">
                <a:solidFill>
                  <a:srgbClr val="000000"/>
                </a:solidFill>
                <a:latin typeface="Constantia"/>
                <a:ea typeface="ＭＳ Ｐゴシック"/>
              </a:rPr>
              <a:t>Retrieved January 23, 2009, from http://</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ww.frsd.k12.nj.us/autistic/Social%20Stories/Pages/</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asking_other_kids_to_play.htm.</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Frost, L., &amp; Bondy, A. (1994). </a:t>
            </a:r>
            <a:r>
              <a:rPr b="0" i="1" lang="en-US" sz="2200" spc="-1" strike="noStrike">
                <a:solidFill>
                  <a:srgbClr val="000000"/>
                </a:solidFill>
                <a:latin typeface="Constantia"/>
                <a:ea typeface="ＭＳ Ｐゴシック"/>
              </a:rPr>
              <a:t>The picture exchange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communication system training manual. </a:t>
            </a:r>
            <a:r>
              <a:rPr b="0" lang="en-US" sz="2200" spc="-1" strike="noStrike">
                <a:solidFill>
                  <a:srgbClr val="000000"/>
                </a:solidFill>
                <a:latin typeface="Constantia"/>
                <a:ea typeface="ＭＳ Ｐゴシック"/>
              </a:rPr>
              <a:t>Cherry Hill,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NJ:  Pyramid Educational Consultants.</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 </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ost, L., &amp; Bondy, A. (2002). </a:t>
            </a:r>
            <a:r>
              <a:rPr b="0" i="1" lang="en-US" sz="2400" spc="-1" strike="noStrike">
                <a:solidFill>
                  <a:srgbClr val="000000"/>
                </a:solidFill>
                <a:latin typeface="Constantia"/>
              </a:rPr>
              <a:t>PECS: The picture</a:t>
            </a:r>
            <a:r>
              <a:rPr b="0" lang="en-US" sz="2400" spc="-1" strike="noStrike">
                <a:solidFill>
                  <a:srgbClr val="000000"/>
                </a:solidFill>
                <a:latin typeface="Constantia"/>
              </a:rPr>
              <a:t> </a:t>
            </a:r>
            <a:r>
              <a:rPr b="0" lang="en-US" sz="2400" spc="-1" strike="noStrike">
                <a:solidFill>
                  <a:srgbClr val="000000"/>
                </a:solidFill>
                <a:latin typeface="Constantia"/>
              </a:rPr>
              <a:t>	</a:t>
            </a:r>
            <a:r>
              <a:rPr b="0" i="1" lang="en-US" sz="2400" spc="-1" strike="noStrike">
                <a:solidFill>
                  <a:srgbClr val="000000"/>
                </a:solidFill>
                <a:latin typeface="Constantia"/>
              </a:rPr>
              <a:t>exchange </a:t>
            </a:r>
            <a:r>
              <a:rPr b="0" i="1" lang="en-US" sz="2400" spc="-1" strike="noStrike">
                <a:solidFill>
                  <a:srgbClr val="000000"/>
                </a:solidFill>
                <a:latin typeface="Constantia"/>
              </a:rPr>
              <a:t>	</a:t>
            </a:r>
            <a:r>
              <a:rPr b="0" i="1" lang="en-US" sz="2400" spc="-1" strike="noStrike">
                <a:solidFill>
                  <a:srgbClr val="000000"/>
                </a:solidFill>
                <a:latin typeface="Constantia"/>
              </a:rPr>
              <a:t>communication system training manual </a:t>
            </a:r>
            <a:r>
              <a:rPr b="0" i="1" lang="en-US" sz="2400" spc="-1" strike="noStrike">
                <a:solidFill>
                  <a:srgbClr val="000000"/>
                </a:solidFill>
                <a:latin typeface="Constantia"/>
              </a:rPr>
              <a:t>	</a:t>
            </a:r>
            <a:r>
              <a:rPr b="0" lang="en-US" sz="2400" spc="-1" strike="noStrike">
                <a:solidFill>
                  <a:srgbClr val="000000"/>
                </a:solidFill>
                <a:latin typeface="Constantia"/>
              </a:rPr>
              <a:t>(2</a:t>
            </a:r>
            <a:r>
              <a:rPr b="0" lang="en-US" sz="2400" spc="-1" strike="noStrike" baseline="30000">
                <a:solidFill>
                  <a:srgbClr val="000000"/>
                </a:solidFill>
                <a:latin typeface="Constantia"/>
              </a:rPr>
              <a:t>nd</a:t>
            </a:r>
            <a:r>
              <a:rPr b="0" lang="en-US" sz="2400" spc="-1" strike="noStrike">
                <a:solidFill>
                  <a:srgbClr val="000000"/>
                </a:solidFill>
                <a:latin typeface="Constantia"/>
              </a:rPr>
              <a:t> ed.). Newark, DE:  Pyramid Educational </a:t>
            </a:r>
            <a:r>
              <a:rPr b="0" lang="en-US" sz="2400" spc="-1" strike="noStrike">
                <a:solidFill>
                  <a:srgbClr val="000000"/>
                </a:solidFill>
                <a:latin typeface="Constantia"/>
              </a:rPr>
              <a:t>	</a:t>
            </a:r>
            <a:r>
              <a:rPr b="0" lang="en-US" sz="2400" spc="-1" strike="noStrike">
                <a:solidFill>
                  <a:srgbClr val="000000"/>
                </a:solidFill>
                <a:latin typeface="Constantia"/>
              </a:rPr>
              <a:t>Products Inc.</a:t>
            </a:r>
            <a:endParaRPr b="0" lang="en-US" sz="2400" spc="-1" strike="noStrike">
              <a:solidFill>
                <a:srgbClr val="000000"/>
              </a:solidFill>
              <a:latin typeface="Constant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nz, J. B., Kaylor, M., Bourgeois, B., &amp; Hadden, K.  </a:t>
            </a:r>
            <a:r>
              <a:rPr b="0" lang="en-US" sz="2600" spc="-1" strike="noStrike">
                <a:solidFill>
                  <a:srgbClr val="000000"/>
                </a:solidFill>
                <a:latin typeface="Constantia"/>
              </a:rPr>
              <a:t>	</a:t>
            </a:r>
            <a:r>
              <a:rPr b="0" lang="en-US" sz="2600" spc="-1" strike="noStrike">
                <a:solidFill>
                  <a:srgbClr val="000000"/>
                </a:solidFill>
                <a:latin typeface="Constantia"/>
              </a:rPr>
              <a:t>(2008).  The impact of social scripts and visual </a:t>
            </a:r>
            <a:r>
              <a:rPr b="0" lang="en-US" sz="2600" spc="-1" strike="noStrike">
                <a:solidFill>
                  <a:srgbClr val="000000"/>
                </a:solidFill>
                <a:latin typeface="Constantia"/>
              </a:rPr>
              <a:t>	</a:t>
            </a:r>
            <a:r>
              <a:rPr b="0" lang="en-US" sz="2600" spc="-1" strike="noStrike">
                <a:solidFill>
                  <a:srgbClr val="000000"/>
                </a:solidFill>
                <a:latin typeface="Constantia"/>
              </a:rPr>
              <a:t>cues on verbal communication in three children </a:t>
            </a:r>
            <a:r>
              <a:rPr b="0" lang="en-US" sz="2600" spc="-1" strike="noStrike">
                <a:solidFill>
                  <a:srgbClr val="000000"/>
                </a:solidFill>
                <a:latin typeface="Constantia"/>
              </a:rPr>
              <a:t>	</a:t>
            </a:r>
            <a:r>
              <a:rPr b="0" lang="en-US" sz="2600" spc="-1" strike="noStrike">
                <a:solidFill>
                  <a:srgbClr val="000000"/>
                </a:solidFill>
                <a:latin typeface="Constantia"/>
              </a:rPr>
              <a:t>with autism spectrum disorders.  </a:t>
            </a:r>
            <a:r>
              <a:rPr b="0" i="1" lang="en-US" sz="2600" spc="-1" strike="noStrike">
                <a:solidFill>
                  <a:srgbClr val="000000"/>
                </a:solidFill>
                <a:latin typeface="Constantia"/>
              </a:rPr>
              <a:t>Focus on </a:t>
            </a:r>
            <a:r>
              <a:rPr b="0" i="1" lang="en-US" sz="2600" spc="-1" strike="noStrike">
                <a:solidFill>
                  <a:srgbClr val="000000"/>
                </a:solidFill>
                <a:latin typeface="Constantia"/>
              </a:rPr>
              <a:t>	</a:t>
            </a:r>
            <a:r>
              <a:rPr b="0" i="1" lang="en-US" sz="2600" spc="-1" strike="noStrike">
                <a:solidFill>
                  <a:srgbClr val="000000"/>
                </a:solidFill>
                <a:latin typeface="Constantia"/>
              </a:rPr>
              <a:t>Autism and Other Developmental Disabilities, </a:t>
            </a:r>
            <a:r>
              <a:rPr b="0" i="1" lang="en-US" sz="2600" spc="-1" strike="noStrike">
                <a:solidFill>
                  <a:srgbClr val="000000"/>
                </a:solidFill>
                <a:latin typeface="Constantia"/>
              </a:rPr>
              <a:t>	</a:t>
            </a:r>
            <a:r>
              <a:rPr b="0" i="1" lang="en-US" sz="2600" spc="-1" strike="noStrike">
                <a:solidFill>
                  <a:srgbClr val="000000"/>
                </a:solidFill>
                <a:latin typeface="Constantia"/>
              </a:rPr>
              <a:t>2</a:t>
            </a:r>
            <a:r>
              <a:rPr b="0" lang="en-US" sz="2600" spc="-1" strike="noStrike">
                <a:solidFill>
                  <a:srgbClr val="000000"/>
                </a:solidFill>
                <a:latin typeface="Constantia"/>
              </a:rPr>
              <a:t>3(2), 79-94.  Retrieved January 20, 2009, from </a:t>
            </a:r>
            <a:r>
              <a:rPr b="0" lang="en-US" sz="2600" spc="-1" strike="noStrike">
                <a:solidFill>
                  <a:srgbClr val="000000"/>
                </a:solidFill>
                <a:latin typeface="Constantia"/>
              </a:rPr>
              <a:t>	</a:t>
            </a:r>
            <a:r>
              <a:rPr b="0" lang="en-US" sz="2600" spc="-1" strike="noStrike">
                <a:solidFill>
                  <a:srgbClr val="000000"/>
                </a:solidFill>
                <a:latin typeface="Constantia"/>
              </a:rPr>
              <a:t>ProQuest database.  </a:t>
            </a:r>
            <a:endParaRPr b="0" lang="en-US" sz="26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8"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oldstein, H.  (2002).  Communicative intervention for </a:t>
            </a:r>
            <a:r>
              <a:rPr b="0" lang="en-US" sz="2200" spc="-1" strike="noStrike">
                <a:solidFill>
                  <a:srgbClr val="000000"/>
                </a:solidFill>
                <a:latin typeface="Constantia"/>
              </a:rPr>
              <a:t>	</a:t>
            </a:r>
            <a:r>
              <a:rPr b="0" lang="en-US" sz="2200" spc="-1" strike="noStrike">
                <a:solidFill>
                  <a:srgbClr val="000000"/>
                </a:solidFill>
                <a:latin typeface="Constantia"/>
              </a:rPr>
              <a:t>children with autism:  A review of treatment efficacy.  </a:t>
            </a:r>
            <a:r>
              <a:rPr b="0" lang="en-US" sz="2200" spc="-1" strike="noStrike">
                <a:solidFill>
                  <a:srgbClr val="000000"/>
                </a:solidFill>
                <a:latin typeface="Constantia"/>
              </a:rPr>
              <a:t>	</a:t>
            </a:r>
            <a:r>
              <a:rPr b="0" i="1" lang="en-US" sz="2200" spc="-1" strike="noStrike">
                <a:solidFill>
                  <a:srgbClr val="000000"/>
                </a:solidFill>
                <a:latin typeface="Constantia"/>
              </a:rPr>
              <a:t>Journal of Autism and Developmental Disorders, 32</a:t>
            </a:r>
            <a:r>
              <a:rPr b="0" lang="en-US" sz="2200" spc="-1" strike="noStrike">
                <a:solidFill>
                  <a:srgbClr val="000000"/>
                </a:solidFill>
                <a:latin typeface="Constantia"/>
              </a:rPr>
              <a:t>(5), </a:t>
            </a:r>
            <a:r>
              <a:rPr b="0" lang="en-US" sz="2200" spc="-1" strike="noStrike">
                <a:solidFill>
                  <a:srgbClr val="000000"/>
                </a:solidFill>
                <a:latin typeface="Constantia"/>
              </a:rPr>
              <a:t>	</a:t>
            </a:r>
            <a:r>
              <a:rPr b="0" lang="en-US" sz="2200" spc="-1" strike="noStrike">
                <a:solidFill>
                  <a:srgbClr val="000000"/>
                </a:solidFill>
                <a:latin typeface="Constantia"/>
              </a:rPr>
              <a:t>373-397.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arris, S. L., &amp; Delmolino, L.  (2002).  Applied behavior </a:t>
            </a:r>
            <a:r>
              <a:rPr b="0" lang="en-US" sz="2200" spc="-1" strike="noStrike">
                <a:solidFill>
                  <a:srgbClr val="000000"/>
                </a:solidFill>
                <a:latin typeface="Constantia"/>
              </a:rPr>
              <a:t>	</a:t>
            </a:r>
            <a:r>
              <a:rPr b="0" lang="en-US" sz="2200" spc="-1" strike="noStrike">
                <a:solidFill>
                  <a:srgbClr val="000000"/>
                </a:solidFill>
                <a:latin typeface="Constantia"/>
              </a:rPr>
              <a:t>analysis:  Its application in the treatment of autism </a:t>
            </a:r>
            <a:r>
              <a:rPr b="0" lang="en-US" sz="2200" spc="-1" strike="noStrike">
                <a:solidFill>
                  <a:srgbClr val="000000"/>
                </a:solidFill>
                <a:latin typeface="Constantia"/>
              </a:rPr>
              <a:t>	</a:t>
            </a:r>
            <a:r>
              <a:rPr b="0" lang="en-US" sz="2200" spc="-1" strike="noStrike">
                <a:solidFill>
                  <a:srgbClr val="000000"/>
                </a:solidFill>
                <a:latin typeface="Constantia"/>
              </a:rPr>
              <a:t>and related disorders in young children.  </a:t>
            </a:r>
            <a:r>
              <a:rPr b="0" i="1" lang="en-US" sz="2200" spc="-1" strike="noStrike">
                <a:solidFill>
                  <a:srgbClr val="000000"/>
                </a:solidFill>
                <a:latin typeface="Constantia"/>
              </a:rPr>
              <a:t>Infants and </a:t>
            </a:r>
            <a:r>
              <a:rPr b="0" i="1" lang="en-US" sz="2200" spc="-1" strike="noStrike">
                <a:solidFill>
                  <a:srgbClr val="000000"/>
                </a:solidFill>
                <a:latin typeface="Constantia"/>
              </a:rPr>
              <a:t>	</a:t>
            </a:r>
            <a:r>
              <a:rPr b="0" i="1" lang="en-US" sz="2200" spc="-1" strike="noStrike">
                <a:solidFill>
                  <a:srgbClr val="000000"/>
                </a:solidFill>
                <a:latin typeface="Constantia"/>
              </a:rPr>
              <a:t>Young Children, 14</a:t>
            </a:r>
            <a:r>
              <a:rPr b="0" lang="en-US" sz="2200" spc="-1" strike="noStrike">
                <a:solidFill>
                  <a:srgbClr val="000000"/>
                </a:solidFill>
                <a:latin typeface="Constantia"/>
              </a:rPr>
              <a:t>(3), 11-17.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Hegde, M. N.  (2001).  </a:t>
            </a:r>
            <a:r>
              <a:rPr b="0" i="1" lang="en-US" sz="2600" spc="-1" strike="noStrike">
                <a:solidFill>
                  <a:srgbClr val="000000"/>
                </a:solidFill>
                <a:latin typeface="Constantia"/>
                <a:ea typeface="ＭＳ Ｐゴシック"/>
              </a:rPr>
              <a:t>Introduction to communicati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isorders </a:t>
            </a:r>
            <a:r>
              <a:rPr b="0" lang="en-US" sz="2600" spc="-1" strike="noStrike">
                <a:solidFill>
                  <a:srgbClr val="000000"/>
                </a:solidFill>
                <a:latin typeface="Constantia"/>
                <a:ea typeface="ＭＳ Ｐゴシック"/>
              </a:rPr>
              <a:t>(3</a:t>
            </a:r>
            <a:r>
              <a:rPr b="0" lang="en-US" sz="2600" spc="-1" strike="noStrike" baseline="30000">
                <a:solidFill>
                  <a:srgbClr val="000000"/>
                </a:solidFill>
                <a:latin typeface="Constantia"/>
                <a:ea typeface="ＭＳ Ｐゴシック"/>
              </a:rPr>
              <a:t>rd</a:t>
            </a:r>
            <a:r>
              <a:rPr b="0" lang="en-US" sz="2600" spc="-1" strike="noStrike">
                <a:solidFill>
                  <a:srgbClr val="000000"/>
                </a:solidFill>
                <a:latin typeface="Constantia"/>
                <a:ea typeface="ＭＳ Ｐゴシック"/>
              </a:rPr>
              <a:t> ed.).  Austin, TX:  Pro-Ed.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Hitchcock, C. H., Dowrick, P. W., &amp; Prater, M.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03).  Video self-modeling intervention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chool-based settings:  A review.  </a:t>
            </a:r>
            <a:r>
              <a:rPr b="0" i="1" lang="en-US" sz="2600" spc="-1" strike="noStrike">
                <a:solidFill>
                  <a:srgbClr val="000000"/>
                </a:solidFill>
                <a:latin typeface="Constantia"/>
                <a:ea typeface="ＭＳ Ｐゴシック"/>
              </a:rPr>
              <a:t>Remedial an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24, </a:t>
            </a:r>
            <a:r>
              <a:rPr b="0" lang="en-US" sz="2600" spc="-1" strike="noStrike">
                <a:solidFill>
                  <a:srgbClr val="000000"/>
                </a:solidFill>
                <a:latin typeface="Constantia"/>
                <a:ea typeface="ＭＳ Ｐゴシック"/>
              </a:rPr>
              <a:t>36-46.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vey, M., Heflin, J., &amp; Alberto, P. (2004). The use of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Social Stories to promote independent behaviors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 novel events for children with PDD-NOS. </a:t>
            </a:r>
            <a:r>
              <a:rPr b="0"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Focu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on Autism and Other Developmental Disabilitie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19</a:t>
            </a:r>
            <a:r>
              <a:rPr b="0" lang="en-US" sz="2400" spc="-1" strike="noStrike">
                <a:solidFill>
                  <a:srgbClr val="000000"/>
                </a:solidFill>
                <a:latin typeface="Constantia"/>
                <a:ea typeface="ＭＳ Ｐゴシック"/>
              </a:rPr>
              <a:t>(3), 164-176.</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Klin, A.  (2006).  Autism and Asperger syndrome:  An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overview.</a:t>
            </a:r>
            <a:r>
              <a:rPr b="0" i="1" lang="en-US" sz="2400" spc="-1" strike="noStrike">
                <a:solidFill>
                  <a:srgbClr val="000000"/>
                </a:solidFill>
                <a:latin typeface="Constantia"/>
                <a:ea typeface="ＭＳ Ｐゴシック"/>
              </a:rPr>
              <a:t> Revista Brasileira de Psiquiatria,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28</a:t>
            </a:r>
            <a:r>
              <a:rPr b="0" lang="en-US" sz="2400" spc="-1" strike="noStrike">
                <a:solidFill>
                  <a:srgbClr val="000000"/>
                </a:solidFill>
                <a:latin typeface="Constantia"/>
                <a:ea typeface="ＭＳ Ｐゴシック"/>
              </a:rPr>
              <a:t>(1), 3-11.</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Retrieved January 20, 2009, from http://</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www.scielo.br/pdf/rbp/v28s1/en_a02v28s1.pdf.</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Lifeprint.com.  (2008).  </a:t>
            </a:r>
            <a:r>
              <a:rPr b="0" i="1" lang="en-US" sz="2600" spc="-1" strike="noStrike">
                <a:solidFill>
                  <a:srgbClr val="000000"/>
                </a:solidFill>
                <a:latin typeface="Constantia"/>
                <a:ea typeface="ＭＳ Ｐゴシック"/>
              </a:rPr>
              <a:t>American sign language:  I lo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you.  </a:t>
            </a:r>
            <a:r>
              <a:rPr b="0" lang="en-US" sz="2600" spc="-1" strike="noStrike">
                <a:solidFill>
                  <a:srgbClr val="000000"/>
                </a:solidFill>
                <a:latin typeface="Constantia"/>
                <a:ea typeface="ＭＳ Ｐゴシック"/>
              </a:rPr>
              <a:t>Retrieved January 24, 2009, from http://</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www.lifeprint.com/asl101/images-layout/</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ily_asl_1024h.gif.</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cCoy, K., &amp; Hermansen, E.  (2007).  Video model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for individuals with autism:  A review of model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type and effects.  </a:t>
            </a:r>
            <a:r>
              <a:rPr b="0" i="1" lang="en-US" sz="2600" spc="-1" strike="noStrike">
                <a:solidFill>
                  <a:srgbClr val="000000"/>
                </a:solidFill>
                <a:latin typeface="Constantia"/>
                <a:ea typeface="ＭＳ Ｐゴシック"/>
              </a:rPr>
              <a:t>Education &amp; Treatment of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Children, 30</a:t>
            </a:r>
            <a:r>
              <a:rPr b="0" lang="en-US" sz="2600" spc="-1" strike="noStrike">
                <a:solidFill>
                  <a:srgbClr val="000000"/>
                </a:solidFill>
                <a:latin typeface="Constantia"/>
                <a:ea typeface="ＭＳ Ｐゴシック"/>
              </a:rPr>
              <a:t>(4), 183-213.  Retrieved January 19,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09, from ProQuest database.  </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irenda, P., Wilk, D., &amp; Carson, P.  (2000).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retrospective analysis of technology use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tudents with autism over a five-year period.  </a:t>
            </a:r>
            <a:r>
              <a:rPr b="0"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Journal of Special Education Technology, 15, </a:t>
            </a:r>
            <a:r>
              <a:rPr b="0" lang="en-US" sz="2600" spc="-1" strike="noStrike">
                <a:solidFill>
                  <a:srgbClr val="000000"/>
                </a:solidFill>
                <a:latin typeface="Constantia"/>
                <a:ea typeface="ＭＳ Ｐゴシック"/>
              </a:rPr>
              <a:t>5-16.</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National Institute on Deafness and Other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Communication Disorders.  (2008).  </a:t>
            </a:r>
            <a:r>
              <a:rPr b="0" i="1" lang="en-US" sz="2600" spc="-1" strike="noStrike">
                <a:solidFill>
                  <a:srgbClr val="000000"/>
                </a:solidFill>
                <a:latin typeface="Constantia"/>
                <a:ea typeface="ＭＳ Ｐゴシック"/>
              </a:rPr>
              <a:t>American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ign language.  </a:t>
            </a:r>
            <a:r>
              <a:rPr b="0" lang="en-US" sz="2600" spc="-1" strike="noStrike">
                <a:solidFill>
                  <a:srgbClr val="000000"/>
                </a:solidFill>
                <a:latin typeface="Constantia"/>
                <a:ea typeface="ＭＳ Ｐゴシック"/>
              </a:rPr>
              <a:t>Retrieved January 17, 2009, from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http://www.nidcd.nih.gov/health/hearing/</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sl.as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4400"/>
            </a:br>
            <a:r>
              <a:rPr b="0" lang="en-US" sz="4000" spc="-1" strike="noStrike">
                <a:solidFill>
                  <a:srgbClr val="04617b"/>
                </a:solidFill>
                <a:latin typeface="Calibri"/>
              </a:rPr>
              <a:t>Functions of Communication</a:t>
            </a:r>
            <a:endParaRPr b="0" lang="en-US" sz="4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 Primary Functions of Communication in Individuals with ASD</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gulate Behavior</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cial Interaction</a:t>
            </a:r>
            <a:endParaRPr b="0" lang="en-US" sz="22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int Attention</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Wetherby &amp; Prizant, 2005)</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8" name=""/>
          <p:cNvSpPr txBox="1"/>
          <p:nvPr/>
        </p:nvSpPr>
        <p:spPr>
          <a:xfrm>
            <a:off x="457200" y="184752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Nunes, D. R. P.  (2008).  AAC intervention for autism: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 research summary.  </a:t>
            </a:r>
            <a:r>
              <a:rPr b="0" i="1" lang="en-US" sz="2600" spc="-1" strike="noStrike">
                <a:solidFill>
                  <a:srgbClr val="000000"/>
                </a:solidFill>
                <a:latin typeface="Constantia"/>
                <a:ea typeface="ＭＳ Ｐゴシック"/>
              </a:rPr>
              <a:t>International Journal of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23</a:t>
            </a:r>
            <a:r>
              <a:rPr b="0" lang="en-US" sz="2600" spc="-1" strike="noStrike">
                <a:solidFill>
                  <a:srgbClr val="000000"/>
                </a:solidFill>
                <a:latin typeface="Constantia"/>
                <a:ea typeface="ＭＳ Ｐゴシック"/>
              </a:rPr>
              <a:t>(2), 17-26.  Retrieved Januar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 2009, from ERIC databas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relock, P. A.  (2006).  </a:t>
            </a:r>
            <a:r>
              <a:rPr b="0" i="1" lang="en-US" sz="2600" spc="-1" strike="noStrike">
                <a:solidFill>
                  <a:srgbClr val="000000"/>
                </a:solidFill>
                <a:latin typeface="Constantia"/>
                <a:ea typeface="ＭＳ Ｐゴシック"/>
              </a:rPr>
              <a:t>Autism spectrum disorders: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Issues in assessment and intervention.  </a:t>
            </a:r>
            <a:r>
              <a:rPr b="0" lang="en-US" sz="2600" spc="-1" strike="noStrike">
                <a:solidFill>
                  <a:srgbClr val="000000"/>
                </a:solidFill>
                <a:latin typeface="Constantia"/>
                <a:ea typeface="ＭＳ Ｐゴシック"/>
              </a:rPr>
              <a:t>Aust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TX:  Pro-E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Rao, S. M., &amp; Gagie, B.  (2009).  Learning through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seeing and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doing:  Visual supports for children with autism.  </a:t>
            </a:r>
            <a:r>
              <a:rPr b="0" i="1" lang="en-US" sz="2200" spc="-1" strike="noStrike">
                <a:solidFill>
                  <a:srgbClr val="000000"/>
                </a:solidFill>
                <a:latin typeface="Constantia"/>
                <a:ea typeface="ＭＳ Ｐゴシック"/>
              </a:rPr>
              <a:t>Teaching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Exceptional Children, 38</a:t>
            </a:r>
            <a:r>
              <a:rPr b="0" lang="en-US" sz="2200" spc="-1" strike="noStrike">
                <a:solidFill>
                  <a:srgbClr val="000000"/>
                </a:solidFill>
                <a:latin typeface="Constantia"/>
                <a:ea typeface="ＭＳ Ｐゴシック"/>
              </a:rPr>
              <a:t>(6), 26-34.  Retrieved January 23,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2009, from ProQuest database.  </a:t>
            </a: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Sansosti, F. J., &amp; Powel-Smith, K. A.  (2008).  Using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computer-presented social stories and video models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to increase the social communication skills of children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ith high-functioning autism spectrum disorders.  </a:t>
            </a:r>
            <a:r>
              <a:rPr b="0" i="1" lang="en-US" sz="2200" spc="-1" strike="noStrike">
                <a:solidFill>
                  <a:srgbClr val="000000"/>
                </a:solidFill>
                <a:latin typeface="Constantia"/>
                <a:ea typeface="ＭＳ Ｐゴシック"/>
              </a:rPr>
              <a:t>Journal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of Positive Behavior Interventions, 10</a:t>
            </a:r>
            <a:r>
              <a:rPr b="0" lang="en-US" sz="2200" spc="-1" strike="noStrike">
                <a:solidFill>
                  <a:srgbClr val="000000"/>
                </a:solidFill>
                <a:latin typeface="Constantia"/>
                <a:ea typeface="ＭＳ Ｐゴシック"/>
              </a:rPr>
              <a:t>(3), 162-178.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Retrieved January 23, 2009, from ProQuest database.  </a:t>
            </a: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Strokes, S.  (2006).  </a:t>
            </a:r>
            <a:r>
              <a:rPr b="0" i="1" lang="en-US" sz="2800" spc="-1" strike="noStrike">
                <a:solidFill>
                  <a:srgbClr val="000000"/>
                </a:solidFill>
                <a:latin typeface="Constantia"/>
                <a:ea typeface="ＭＳ Ｐゴシック"/>
              </a:rPr>
              <a:t>Developing expressive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communication skills for non-verbal children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with autism.  </a:t>
            </a:r>
            <a:r>
              <a:rPr b="0" lang="en-US" sz="2800" spc="-1" strike="noStrike">
                <a:solidFill>
                  <a:srgbClr val="000000"/>
                </a:solidFill>
                <a:latin typeface="Constantia"/>
                <a:ea typeface="ＭＳ Ｐゴシック"/>
              </a:rPr>
              <a:t>Retrieved January 24, 2009, from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http://www.specialed.us/autism/nonverbal/</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non11.htm.</a:t>
            </a:r>
            <a:endParaRPr b="0" lang="en-US" sz="28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SuperDuper Publications.  (2009).  </a:t>
            </a:r>
            <a:r>
              <a:rPr b="0" i="1" lang="en-US" sz="2800" spc="-1" strike="noStrike">
                <a:solidFill>
                  <a:srgbClr val="000000"/>
                </a:solidFill>
                <a:latin typeface="Constantia"/>
                <a:ea typeface="ＭＳ Ｐゴシック"/>
              </a:rPr>
              <a:t>Go talk 9+.  </a:t>
            </a:r>
            <a:r>
              <a:rPr b="0" i="1"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etrieved January 24, 2009, from http://</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www.superduperinc.com/products/</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view.aspx?pid=ATT09&amp;stid=.</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The Sensory Company.  (2003).  </a:t>
            </a:r>
            <a:r>
              <a:rPr b="0" i="1" lang="en-US" sz="2800" spc="-1" strike="noStrike">
                <a:solidFill>
                  <a:srgbClr val="000000"/>
                </a:solidFill>
                <a:latin typeface="Constantia"/>
                <a:ea typeface="ＭＳ Ｐゴシック"/>
              </a:rPr>
              <a:t>Bigmack switch.  </a:t>
            </a:r>
            <a:r>
              <a:rPr b="0" i="1"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etrieved January 24, 2009, from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http:www.thesensorycompany.co.uk/</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atalog/ProductDetails.aspx?productID=68.  </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Thiemann, K. S., &amp; Goldstein, H.  (2001).  Social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Stories, written text cues, and video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feedback: Effects on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social communication of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hildren with autism. </a:t>
            </a:r>
            <a:r>
              <a:rPr b="0" i="1" lang="en-US" sz="2800" spc="-1" strike="noStrike">
                <a:solidFill>
                  <a:srgbClr val="000000"/>
                </a:solidFill>
                <a:latin typeface="Constantia"/>
                <a:ea typeface="ＭＳ Ｐゴシック"/>
              </a:rPr>
              <a:t>Journal of Applied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Behavior Analysis, 34</a:t>
            </a:r>
            <a:r>
              <a:rPr b="0" lang="en-US" sz="2800" spc="-1" strike="noStrike">
                <a:solidFill>
                  <a:srgbClr val="000000"/>
                </a:solidFill>
                <a:latin typeface="Constantia"/>
                <a:ea typeface="ＭＳ Ｐゴシック"/>
              </a:rPr>
              <a:t>(4), 425-446.</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issot, C., &amp; Evans, R.  (2003).  Visual teach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trategies for children with autism.  </a:t>
            </a:r>
            <a:r>
              <a:rPr b="0" i="1" lang="en-US" sz="2600" spc="-1" strike="noStrike">
                <a:solidFill>
                  <a:srgbClr val="000000"/>
                </a:solidFill>
                <a:latin typeface="Constantia"/>
                <a:ea typeface="ＭＳ Ｐゴシック"/>
              </a:rPr>
              <a:t>Early Chil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evelopment and Care, </a:t>
            </a:r>
            <a:r>
              <a:rPr b="0" lang="en-US" sz="2600" spc="-1" strike="noStrike">
                <a:solidFill>
                  <a:srgbClr val="000000"/>
                </a:solidFill>
                <a:latin typeface="Constantia"/>
                <a:ea typeface="ＭＳ Ｐゴシック"/>
              </a:rPr>
              <a:t>173(4), 425-433.</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Wetherby, A. M., &amp; Prizant, B. M.  (2005).  Enhanc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language and communication development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utism spectrum disorders:  Assessment an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intervention guidelines.  In D. Zager (Ed.).  </a:t>
            </a:r>
            <a:r>
              <a:rPr b="0"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Autism spectrum disorders:  Identification,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education, and treatment </a:t>
            </a:r>
            <a:r>
              <a:rPr b="0" lang="en-US" sz="2600" spc="-1" strike="noStrike">
                <a:solidFill>
                  <a:srgbClr val="000000"/>
                </a:solidFill>
                <a:latin typeface="Constantia"/>
                <a:ea typeface="ＭＳ Ｐゴシック"/>
              </a:rPr>
              <a:t>(3</a:t>
            </a:r>
            <a:r>
              <a:rPr b="0" lang="en-US" sz="2600" spc="-1" strike="noStrike" baseline="30000">
                <a:solidFill>
                  <a:srgbClr val="000000"/>
                </a:solidFill>
                <a:latin typeface="Constantia"/>
                <a:ea typeface="ＭＳ Ｐゴシック"/>
              </a:rPr>
              <a:t>rd</a:t>
            </a:r>
            <a:r>
              <a:rPr b="0" lang="en-US" sz="2600" spc="-1" strike="noStrike">
                <a:solidFill>
                  <a:srgbClr val="000000"/>
                </a:solidFill>
                <a:latin typeface="Constantia"/>
                <a:ea typeface="ＭＳ Ｐゴシック"/>
              </a:rPr>
              <a:t> ed.).  New York: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Routled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22:41:04Z</dcterms:created>
  <dc:creator>Kristin Szewczyk</dc:creator>
  <dc:description/>
  <dc:language>en-US</dc:language>
  <cp:lastModifiedBy>Kristin Szewczyk</cp:lastModifiedBy>
  <dcterms:modified xsi:type="dcterms:W3CDTF">2009-02-01T23:18:38Z</dcterms:modified>
  <cp:revision>107</cp:revision>
  <dc:subject/>
  <dc:title>Facilitating Communication in the Home</dc:title>
</cp:coreProperties>
</file>